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996-48E2-4C28-B9B9-386A7E5D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DE3-0BA2-4F8D-AA7E-9FB7FE25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798-2963-4032-A5B2-AF04F90D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E67-2CE8-4075-92D1-4944FFC3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A1F-FD22-47A5-AFED-FBC49F16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A24-848D-45E2-9C3B-F67E0A1C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BCB-0256-4014-B466-EA445ECE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3C9-E59A-41A4-AC76-F7D4286C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61A-EF38-4EDB-BD51-15AE77F2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D8B-2765-4FEA-9B47-E1E9906A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5AA-9C07-4A60-A4C5-B7F1CA40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5F3-8565-401E-9CB3-75848C0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4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1142-1882-4F9A-906E-CD428C3A3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Times New Roman"/>
              </a:rPr>
              <a:t>Bullets and Numb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343400" cy="361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kartici OUTLINE NUMBERED, postoji izbor mogućnosti za numerisanu listu sa podstavkama. Lista se čak može sastaviti i kao kombinacija numeracije i bullet-a, brojki i slova, rimskih i arapskih brojeva i s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bog toga je očigledno da će podešavanje ovakve liste zahtevati najviše napora i najkomplikovaniju CUSTOMIZE opcij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rtica LIST STYLES neće biti razmatrana na ovom kurs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1219320"/>
            <a:ext cx="24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IJALOG ZA LISTE SA PODSTAVK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2000" y="1676520"/>
            <a:ext cx="9907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715000" cy="3581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dijalogu CUSTOMIZE će biti objašnjene samo osnovne mogućn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neli NUMBER POSITION i TEXT POSITION su isti kao pri podešavanju obične numerisane li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 druge strane panel NUMBER FORMAT uključuje i listu vezanu za nivo numeracije (LEVEL). Treba imati u vidu da prvi nivo označava glavne stavke, drugi podstavke, treći podstavke podstavki, i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a bi se promenio izgled određenog nivoa podstavki, potrebno je prvo izabrati taj nivo u listi LE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990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NIVO STAV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914040" y="1143000"/>
            <a:ext cx="57913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715000" cy="3581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olju NUMBER FORMAT određujemo ispis brojeva (tačke, crte, zagrade i sl). Takođe, u ovom polju, pomoću padajuće liste PREV. LEVEL NUMBER, možemo odrediti i da li će se pored broja podstavke videti i broj neke od njenih nadstav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ja NUMBER STYLE i START AT imaju istu funkciju kao u CUSTOMIZE dijalogu za obične numerisane liste, odnosno koriste se biranje vrste numeracije stavki i broja od koga numeracija počin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8380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IZGLED NUMER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819160" y="1143000"/>
            <a:ext cx="38862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5640" y="1981080"/>
            <a:ext cx="43434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175248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ISPIS NUMERACIJE PRETHODNOG NIV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035160" cy="191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visno od toga šta želimo da postignemo, kreiranje običnih ili numerisanih lista u WORD-u može biti veoma jednostavan ili veoma složen zadata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 najjednostavnije liste postoje izvučene komande na TOOLBAR-u: NUMBERING, BULLETS, DECREASE INDENT i INCREASE I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2004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NUMERISANA 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9625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LISTA SA “BULETIM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19112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IZVLAČENJE STAVKI L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419112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UVLAČENJE STAVKI L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05120" y="1905120"/>
            <a:ext cx="152388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00400" y="1904760"/>
            <a:ext cx="91440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76560" y="1905120"/>
            <a:ext cx="609480" cy="2133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562720" y="1905120"/>
            <a:ext cx="1676160" cy="2133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514600" cy="2679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2679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se napravila najjednostavnija lista, dovoljno je selektovati određene stavke i kliknuti komandu BULLETS na TOOLBAR-u. Stavke će odmah biti prebačene u lis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mande BULLETS i NUMBERING spadaju u tzv. “toggle” komande, odnosno predstavljaju “stanje” koje se može uključivati i isključiva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rugim rečima, ako želimo da ukinemo listu, dovoljno je da je selektujemo i ponovo izaberemo komandu BULL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9144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SELEKCIJA STAV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2004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KREIRANA 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320" y="1219320"/>
            <a:ext cx="16002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24280" y="2362320"/>
            <a:ext cx="137160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2514600" cy="2679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2514600" cy="2679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u postojećoj listi želimo da napravimo podstavke, jednostavno selektujemo one stavke koje treba da uvučemo i onda koristimo komadu INCREASE INDENT. Onoliko puta koliko kliknemo na tu komandu, napravićemo stavke dubljeg nivoa (podstavke podstavk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to tako, ukoliko se predomislimo, stavke možemo “izvući” na viši nivo korišćenjem komande DECREASE IN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ače, ove komande se donekle mogu koristiti i za ograničavanje pasusa sa leve str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8380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SELEKTOVANE PODSTAV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86000" y="14479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32767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KREIRANA POD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57800" y="2438280"/>
            <a:ext cx="16002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082960" cy="229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sličan način se kreira i numerisana lista. Razlika je samo u tome što se umesto komande BULLETS koristi komanda NUMBE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nosti korišćenja WORD-ovih lista u odnosu na “ručno” pravljene su višestruke. Pre svega obične liste se automatski formatiraju da budu preglednije (što je moguće i ručno postići ali uz kombinovanje uvlačenja pasusa i tabulator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umerisane liste su pogodne zbog mogućnosti automatske numeracije, što znači da se redosled brojeva neće pokvariti kada dodajemo, brišemo ili premeštamo stav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43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NUMERISANA 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666880" y="1523880"/>
            <a:ext cx="19051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343400" cy="361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koliko želimo da promenimo izgled oznaka za listu, možemo birati neke od već ponuđenih mogućnosti u dijalogu BULLETS AND NUMBERING iz menija FORM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kartici BULLETED se nalaze stilovi za obične liste. Ukoliko želimo da definišemo svoj stil za listu, koristićemo komandu CUSTOMI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rišćenje ovog dijaloga funkcioniše isto kao i komanda BULLETS sa TOOLBAR-a – za selektovane stavke se bira odgovarajući stil koji će biti primenjen na listu kada se klikne na dugmence 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23623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NAPREDNO FORAMTIR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95320" y="2819520"/>
            <a:ext cx="21337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1219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UNAPRED DEFINISANI STIL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24080" y="1676520"/>
            <a:ext cx="24386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2811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anelu BULLET POSITION biramo koliko će BULLET biti uvučen u odnosu na marginu, a u panelu TEXT POSITION određujemo uvlačenje teksta (što se odnosi na udaljenost prve linije od BULLET-a) i uvlačenje svih ostalih lini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bolji rezultati se postižu kada su vrednosti u poljima TAB SPACE AFTER i INDENT AT jednak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15238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UVLAČENJE BULL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276360" y="1828800"/>
            <a:ext cx="37335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60948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ODATNE MOGUĆNOSTI ZA BUL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123720" y="1143000"/>
            <a:ext cx="16002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200400" y="2590560"/>
            <a:ext cx="274320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4382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UVLAČENJE TEK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27672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abrani unapred definisani stil možemo promeniti u dijalogu CUSTOMIZE. U panelu BULLET CHARACTER možemo odabrati drugu oznaku za BULLET-e, FONT iz koga se oznaka uzima, koji znak iz fonta se koristi (CHARACTER) ili sli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343400" cy="361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sličan način, u kartici NUMBERED, biramo razne mogućnosti za numerisanu listu, gde možemo birati unapred ponuđene rimske ili arapske brojeve, kao i slova abece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lika je što se ovde nudi opcija brojanja od početka ili nastavka brojanja od prethodne li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jedini stil možemo promeniti tako što kliknemo na njega i odaberemo komandu CUSTOMIZE koja poziva poseban dijalog za promenu izgleda numerac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2286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NUMERACIJA OD POČET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76160" y="2590920"/>
            <a:ext cx="426708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219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UNAPRED DEFINISANI STIL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124080" y="1676520"/>
            <a:ext cx="24386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5053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NASTAVAK PRETHODNE L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388620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2811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BULLETS AND NU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adajućoj listi NUMBER STYLE biramo rimske, arapske brojeve, velika slova ili mala slova. Polje START AT određuje početak numerac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anel NUMBER POSITION označava koliko će broj biti udaljen od margine, a postoji i padajuća lista koja označava poravnanje brojeva jednih ispod drugih – po levoj, desnoj strani ili centrirano. Opcije za uvlačenje teksta su iste kao i kod BULLETED li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15238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OZICIJA NUMER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76360" y="1828800"/>
            <a:ext cx="37335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4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IZGLED I STIL NUMER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124080" y="990720"/>
            <a:ext cx="19051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200400" y="2590560"/>
            <a:ext cx="274320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382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UVLAČENJE TEK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327672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 svega moguće je promeniti font ispisa numeracije (komanda FONT). Zatim, moguće je promeniti način ispisivanja u polju NUMBER FORMAT, gde se određuje da li će se pored numeracije pojavljivati tačkice, poluzagrade ili bilo koji drugi zn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 </cp:lastModifiedBy>
  <dcterms:modified xsi:type="dcterms:W3CDTF">2007-02-09T12:24:34Z</dcterms:modified>
  <cp:revision>51</cp:revision>
  <dc:subject/>
  <dc:title>WORD 2</dc:title>
</cp:coreProperties>
</file>