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798-C87D-4E43-9357-2138D9EA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A8C-3BC8-44B7-97AF-53962248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E0E-AEE1-4C6B-9440-0BC6035C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DBA-9D86-4977-B42E-902438B9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2BF-F23E-43D5-A059-51C79D4A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A5F-2266-4E6D-8FD8-0A3F50EA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35A-DDA3-4FE7-B6BE-23CB1154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577-EB70-42A3-B897-21756AD7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5CD-D7AF-4AA8-9D0E-E8C7836B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AA1-E938-457D-B601-222CB8FE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AE4-4C86-4C1A-A79D-E6EF3170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461-1BA8-4A3B-9449-66E866D8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857120" y="2533320"/>
            <a:ext cx="655344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0c0c0"/>
                </a:solidFill>
                <a:latin typeface="Arial Black"/>
              </a:rPr>
              <a:t>WORD 4</a:t>
            </a:r>
            <a:endParaRPr b="0" lang="en-US" sz="2400" spc="1" strike="noStrike">
              <a:ln w="0">
                <a:noFill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8524-5861-47AE-AF39-096DDBECA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Times New Roman"/>
              </a:rPr>
              <a:t>T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T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WORD-u postoji četiri različite vrste tabulacije – levo poravnata, centrirana, desna i decimalna (BAR TAB jednostavno povlači vertikalnu crtu preko pasusa i ovde neće biti razmatra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koliko nisu zadati, tabovi (levo poravnati) se nalaze na jednakim i unapred određenim rastojanji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296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066680" y="4419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LE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4197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CENTRIR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4197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DES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44197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DECIMAL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914040" y="365724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047760" y="3580920"/>
            <a:ext cx="53316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638680" y="3580920"/>
            <a:ext cx="91440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7543800" y="3580920"/>
            <a:ext cx="685800" cy="838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T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abulatori se podešavaju za pasuse i mogu se zadavati ručno (levi klik mišem na lenjiru) il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eko dijaloga TABS iz menija FORMA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bično je dobra ideja da se selektuju pasusi za koje se zadaju tabulatori, zatim da se ručno postave na lenjiru, a onda (dok su pasusi i dalje selektovani) koriguju u dijalog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296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590920" y="41911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DESNI TAB SA LEADER-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41148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ZADATI TABOVI SE VIDE NA LENJI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33920" y="3581280"/>
            <a:ext cx="60948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629040" y="1066320"/>
            <a:ext cx="114300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733920" cy="4368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T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ovu poziciju tabulatora zadajemo u polju TAB STOP POSITION, koju potvrdimo pritiskom na dugmence SET čime se zadata pozicija pojavljuje u listi tabul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EFAULT TAB STOPS predstavljaju razmake na kojima se nalaze tabulatori ukoliko nisu definisani (npr. posle poslednje pozicije koju je zadao korisnik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8380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NOS NOVE POZI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057400" y="1218960"/>
            <a:ext cx="259092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057400" y="1752120"/>
            <a:ext cx="266688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7524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VE PO</a:t>
            </a: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ZICIJE U PASU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5909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UNAPRED ODREĐENE POZI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33920" y="1371240"/>
            <a:ext cx="2971800" cy="1600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733920" cy="4368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T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želimo da menjamo karakteristike nekog tabulatora, moramo da ga selektujemo u listi. U panelu ALIGNMENT biramo poravnanje, odnosno tip tabulatora. U panelu LEADER možemo odabrati znak kojim će se popunjavati “praznina” tabulatora (tačkice, crtice i s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što zadamo promene, obavezno ponovo biramo dugmence SET, da bi promene bile zapamće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9625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LEADER TABULAT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1295280"/>
            <a:ext cx="21337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438280" y="3580920"/>
            <a:ext cx="236232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21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ODABRANI TABULATOR IZ L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4382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TIP PORAVNANJA TABULAT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14600" y="2666880"/>
            <a:ext cx="2209680" cy="152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733920" cy="4368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r-HR" sz="2000" spc="-1" strike="noStrike">
                <a:solidFill>
                  <a:srgbClr val="ffffff"/>
                </a:solidFill>
                <a:latin typeface="Arial"/>
              </a:rPr>
              <a:t>T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isanje tabulatora se obavlja na sličan način. Prvo izaberemo tabulator iz liste, a zatim ga obrišemo pomoću dugmenceta CLE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e zadate tabulatore brišemo komandom CLEAR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295280"/>
            <a:ext cx="21337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2819520"/>
            <a:ext cx="32004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7621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ODABRANI TABULATOR IZ L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200400" y="4191120"/>
            <a:ext cx="419112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0384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BRISANJE SVIH TABULAT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2286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BRISANJE TABULAT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 </cp:lastModifiedBy>
  <dcterms:modified xsi:type="dcterms:W3CDTF">2007-02-09T09:03:12Z</dcterms:modified>
  <cp:revision>41</cp:revision>
  <dc:subject/>
  <dc:title>WORD 2</dc:title>
</cp:coreProperties>
</file>