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A9B6-3644-435E-9674-578936A5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07E7-1E0B-4E6B-9F3F-70468BC9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340F-D212-4E50-96D0-D1735B85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907-28A2-4700-BD52-147B0B04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F35-1971-43C8-A6AC-257C872B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BAD9-ED46-449C-8244-2E4C08BB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0D7-AE5C-4BA4-8B56-21D5C24E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8398-43C1-47DE-892B-F922F7D6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F8F-22FF-4991-BF2B-D13CF676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EA3-EBBC-46ED-A2C2-B8B4226F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6139-3730-4544-B560-E6A72794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6F4-820D-488D-806C-1ED78B2D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2973800">
            <a:off x="-838080" y="304200"/>
            <a:ext cx="5333760" cy="533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2973800">
            <a:off x="-762120" y="15998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2973800">
            <a:off x="-762120" y="289512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2973800">
            <a:off x="-762120" y="4190400"/>
            <a:ext cx="5334120" cy="533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2973800">
            <a:off x="-762120" y="54860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2973800">
            <a:off x="-762120" y="68576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 rot="5400000">
            <a:off x="4857120" y="2533320"/>
            <a:ext cx="6553440" cy="17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0c0c0"/>
                </a:solidFill>
                <a:latin typeface="Arial Black"/>
              </a:rPr>
              <a:t>WORD 4</a:t>
            </a:r>
            <a:endParaRPr b="0" lang="en-US" sz="2400" spc="1" strike="noStrike">
              <a:ln w="0">
                <a:noFill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0B08-20C4-4E3C-AB13-49C57BEE3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ORD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orders and Sh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BORDERS AND SH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9621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meniju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 nal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i komand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S AND SHADING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kojom se otvara dijalog z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eiranje linija oko z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atog teksta, pasusa ili celih strana, kao i za bojenje pozadi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ijalog se sastoji od tri kartice. BORDERS se odnosi na iscrtavanje okvira oko zadatog teksta, PAGE BORDER na okvir oko celih stranica, a SHADING na boju i šrafuru pozadine zadatog tek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3137040" cy="1803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29000" y="762120"/>
            <a:ext cx="5334120" cy="4030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BORDERS AND SH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panelu SETTINGS možemo odabrati neki od unapred definisanih okvir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snovna podešavanja NONE i BOX služe za uklanjanje i postavljanje okvira. Jednom postavljeni okvir je moguće menjat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vakom okviru ili čak liniji okvira možemo menjati izgled (STYLE), boju (COLOR) ili debljinu (WIDTH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8380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EDEFINISANI OKVI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1523880"/>
            <a:ext cx="182880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447920" y="2057400"/>
            <a:ext cx="358128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28600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IZGLED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LIN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200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1148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BLJ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523880" y="3200040"/>
            <a:ext cx="350532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057400" y="3733560"/>
            <a:ext cx="2895480" cy="533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5334120" cy="4030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BORDERS AND SH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panelu PREVIEW možemo videti kako će okvir izgledati u tekstu. Izborom odgovarajućih dugmića (koji se nalaze raspoređeni oko prostora za prikaz) možemo isključiti ili uključiti pojedinu liniju, kao i menjati samo njen izgl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ko padajuće liste APPLY TO biramo da li će okvir biti za ceo pasus ili samo za selektovani tek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6094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PROMENA POJEDINIH LIN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495680" y="1143000"/>
            <a:ext cx="198144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057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PRIM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028840" y="2514600"/>
            <a:ext cx="1523880" cy="1295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5334120" cy="4030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BORDERS AND SH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5257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tica PAGE BORDER nam omogu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ćava da definišemo okvir oko cele stranice. Razlika u odnosu na obične okvire, je padajuća lista ART u kojoj se nalaze dodatne sličice kojima je moguće kreirati okvi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12952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DODATNI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OKVIRI ZA STRANIC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276360" y="1981080"/>
            <a:ext cx="335268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29000" y="762120"/>
            <a:ext cx="5334120" cy="4030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BORDERS AND SH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kartici SHADING biramo boju pozadine. Možemo odabrati jednu od ponuđenih boja ili pozvati paletu boja na dugmencetu MORE COL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padajućoj listi PATTERNS možemo odabrati raster (šrafuru) za pozadinu, a odmah ispod i boju te šraf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6858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IZBOR BOJE POZAD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219320"/>
            <a:ext cx="144756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15238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RASTERI ZA ISCRTAVANJE POZAD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2209680"/>
            <a:ext cx="1600200" cy="129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3581280"/>
            <a:ext cx="182880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124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0000"/>
                </a:solidFill>
                <a:latin typeface="Arial"/>
              </a:rPr>
              <a:t>BOJA RAST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0:37:37Z</dcterms:created>
  <dc:creator>Bedni Pucko</dc:creator>
  <dc:description/>
  <dc:language>en-US</dc:language>
  <cp:lastModifiedBy>Bedni Pucko</cp:lastModifiedBy>
  <dcterms:modified xsi:type="dcterms:W3CDTF">2007-02-08T18:28:15Z</dcterms:modified>
  <cp:revision>32</cp:revision>
  <dc:subject/>
  <dc:title>WORD 2</dc:title>
</cp:coreProperties>
</file>