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1A5-922C-4D25-9EAD-03EF87BC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B74-76E0-4CE8-AF49-438FCC9F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884-C914-4AC8-AD36-8A86850D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447-CDCD-4DAA-9E08-8BF94356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A63-C518-43F1-9B42-A1293CD0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0C4-DB08-4647-9413-6EF1376D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D4E-52ED-486B-AFBB-3C0D3CA2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2CE-4751-403C-A11B-63745FC1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AE5-EC32-4822-9EB4-60D7F162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143-69F6-4E29-95B3-0F5A9484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476-DF5A-4C9F-90EB-D2310632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F28-881F-4F75-8AFA-C8013A09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c0c0"/>
                </a:solidFill>
                <a:latin typeface="Arial Black"/>
              </a:rPr>
              <a:t>WORD 4</a:t>
            </a:r>
            <a:endParaRPr b="0" lang="en-US" sz="2400" spc="1" strike="noStrike">
              <a:ln w="0">
                <a:noFill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1E80-EADE-48C8-8587-4A34AA921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Times New Roman"/>
              </a:rPr>
              <a:t>Napredno podešavanje fo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989520" cy="4343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JALOG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 kartici TEXT EFFECTS se može odabrati neki od animiranih efekata za tek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048120" y="1905120"/>
            <a:ext cx="274320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4382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ANIMIRANI EFEK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190760" y="2666880"/>
            <a:ext cx="160020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989520" cy="4343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JALOG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listama FONT, FONT STYLE i SIZE se podešavaju izgled, ispis  (bold i italic) i veličina slova. U padajućim listama FONT COLOR, UNDERLINE STYLE i UNDERLINE COLOR se podešavaju boja slova, način podvlačenja i boja podvlačen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762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IZGLED SLOVA, ISPIS, VELIČ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419360" y="1066680"/>
            <a:ext cx="205740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39625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jalog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 napredno podešavanje karakteristka fonta se poziva iz menija FORMAT, preko komande FO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0920" y="2819520"/>
            <a:ext cx="205740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74320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BOJA SLOVA, PODVLAČENJE, BOJA PODVLAČEN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962160" y="3124080"/>
            <a:ext cx="1600200" cy="838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989520" cy="4343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JALOG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jedinačne opcije u okviru EFFECTS predstavljaju posebne dodatke u prikazu tek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RIKETHROUGH označava prectan tekst, a DOUBLE STRIKETHROUGH se koristi za precrtavanje duplom linijo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981080" y="2590920"/>
            <a:ext cx="381024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438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PRECRTAV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038120" y="2590920"/>
            <a:ext cx="175284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989520" cy="4343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JALOG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UPERSCRIPT ispisuje tekst u eksponentu (npr. "m</a:t>
            </a:r>
            <a:r>
              <a:rPr b="0" lang="hr-HR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"), dok SUBSCRIPT ispisuje tekst u indeksu (npr. "X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"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828440" y="2666880"/>
            <a:ext cx="39625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24382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SUPER i SUB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962520" y="2666880"/>
            <a:ext cx="182880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989520" cy="4343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JALOG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HADOW će ubaciti senku ispod slova, a OUTLINE će ispisati tekst kao kontur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a bi se efekti videli, ove opcije ima smisla upotrebljavati samo na većim slov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971800" y="2666880"/>
            <a:ext cx="28195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24382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SHADOW i 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190760" y="2666880"/>
            <a:ext cx="160020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989520" cy="4343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JALOG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MBOSS prdstavlja efekat ispupčenih, a ENGRAVE udubljenih slo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ALL CAPS će mala slova ispisati kao velika ali sa manjom veličinom fonta (npr. "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VA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"), ALL CAPS će sva slova prikazati kao velika, dok opcija HIDDEN služi za sakrivanje selektovanog teksta (tekst će se prikazati tek kada se uključi opcija za prikaz nevidljivih znako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71800" y="3504960"/>
            <a:ext cx="266688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5812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EMBOSS i ENG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038120" y="2514600"/>
            <a:ext cx="175284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9051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SMALL CAPS, ALL CAPS, HID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190760" y="3733920"/>
            <a:ext cx="144756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989520" cy="4343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JALOG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 kartici CHARACTER SPACING se podešavaju širina slova, razmak među slovima i položaj teksta po vertika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listi SCALE se podešava širina slova. Svaka vrednost iznad 100% će dati razvučena, a svaka vrednost ispod 100% će dati sužena slo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285640" y="1523880"/>
            <a:ext cx="335268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22860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ŠIRINA TEK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09880" y="2438280"/>
            <a:ext cx="182880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989520" cy="4343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JALOG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pcija SPACING se sastoji iz liste u kojoj se bira da li će se razmaci između slova povećavati (EXPANDED) ili smanjivati (CONDENSED) i polja BY u kome se određuje za koliko će slova biti razmaknuta, odnosno zbije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vka NORMAL iz liste, vraća tekst na uobičajeni izg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886200" y="1904760"/>
            <a:ext cx="175248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21337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RAZMAK IZMEĐU SL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809880" y="2438280"/>
            <a:ext cx="182880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989520" cy="4343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JALOG F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ertikalni položaj teksta se može podesiti kao RAISED (podignuta) ili LOWERED (spuštena slova). U polju BY se navodi za koliko će se slova pomeri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pcija KERNING FOR FONTS se odnosi na podešavanje prikaza pojedinih parova slova u fontu i ovde se neće koristi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809880" y="2209320"/>
            <a:ext cx="18288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0574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VERTIKALNI POLOŽAJ TEK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809880" y="2438280"/>
            <a:ext cx="182880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Bedni Pucko</cp:lastModifiedBy>
  <dcterms:modified xsi:type="dcterms:W3CDTF">2005-12-06T09:10:09Z</dcterms:modified>
  <cp:revision>20</cp:revision>
  <dc:subject/>
  <dc:title>WORD 2</dc:title>
</cp:coreProperties>
</file>