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511-DA5C-47B8-AF63-FA928CE9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4E1-FA33-42F1-B84D-13BEE08D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89F-A964-4C01-8FB7-EA1A86D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551-591B-43EB-89C9-B44FED51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16C-F0CE-4EF7-96AD-F1B367A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6AE-8B4E-42DE-88B0-6E3F8157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3F2-7E43-4493-9373-6990E37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F6F-C802-4AD5-90A7-7D203A6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F0A-BF59-419E-BAF3-2722695B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AA4-DC33-48CB-815A-0029746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714-42A1-4666-9D6B-70C7530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161-CC61-4253-8B48-7841816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3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C3E-6667-4F5B-8FFE-6D9D7C483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l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2882880" cy="2946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eniju INSERT se nalazi komanda BREAK. Koristimo je kada želimo da ubacimo neki od preloma. Kada se ubacuju prelomi, dovoljno je da pozicioniramo kursor na mesto u tekstu gde ga želimo. Nije potrebno bilo šta selektovati. Zatim iz dijaloga odaberemo odgovarajući prel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23623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IJALOG KOMANDE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743200"/>
            <a:ext cx="83808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4991040" cy="4559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3200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jčešće korišćen je PAGE BREAK, koji služi za prelaz na sledeću stran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76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AGE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905120"/>
            <a:ext cx="19051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4965480" cy="45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191120"/>
            <a:ext cx="3200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OLUMN BREAK se koristi za prekid teksta u stupcima. Tekst se zatim nastavlja u sledećem stupc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OLUMN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905120"/>
            <a:ext cx="16002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676840" cy="3276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XT WRAPPING BREAK se koristi da se "omotavanje" teksta oko slike ili drugog objekta prekine i nastavi posle slik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7524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EXT WRAPPING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71840" y="2286000"/>
            <a:ext cx="1219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82880" cy="29462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edeća četiri tipa preloma služe za kreiranje nove sekcije. Sekcije su zasebni delovi dokumenta i mogu imati posebna podešavanja (margine, brojeve strana, fusnot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XT PAGE će započeti novu sekciju na novoj strani (slično kao PAGE BREAK). EVEN PAGE i ODD PAGE rade to isto samo što započinju tekst na prvoj sledećoj parnoj, odnosno neparnoj stran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133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CTION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2362320"/>
            <a:ext cx="167652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4965480" cy="45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L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403848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ONTINUOUS SECTION BREAK će napraviti novu sekciju na istoj strani. Primer ovog preloma su stupci, koji predstavljaju zasebnu sekciju u dokumentu i počinju i završavaju CONTINUOUS prelom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ONTINUOUS SECTION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90920" y="1218960"/>
            <a:ext cx="350496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905120"/>
            <a:ext cx="4724280" cy="2819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5-11-27T18:41:57Z</dcterms:modified>
  <cp:revision>8</cp:revision>
  <dc:subject/>
  <dc:title>WORD 2</dc:title>
</cp:coreProperties>
</file>