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014E-9EFE-4F9C-BEA7-C681BF40A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E9E4-5DBD-4896-889C-119CEDD97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1A67-5C3C-4472-92A2-1945C5576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0505-161E-49A8-A840-C048EF17C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165D-2B0E-4705-897E-E872141C1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1343-084A-470A-BF90-59878C169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FEA7-10AB-45A9-953C-BBF729DDD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1286-B228-4A33-84B8-C23654078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2012-C653-4A6E-84FE-AA133F82D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E893-F17A-4A0A-B20B-E896D398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DA96-EB94-4D3C-92BC-30AE2A1B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79D6-CDA3-427D-B8EC-4D0B3503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2973800">
            <a:off x="-838080" y="304200"/>
            <a:ext cx="5333760" cy="5331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rot="12973800">
            <a:off x="-762120" y="1599840"/>
            <a:ext cx="5334120" cy="5335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rot="12973800">
            <a:off x="-762120" y="2895120"/>
            <a:ext cx="5334120" cy="5335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rot="12973800">
            <a:off x="-762120" y="4190400"/>
            <a:ext cx="5334120" cy="5331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rot="12973800">
            <a:off x="-762120" y="5486040"/>
            <a:ext cx="5334120" cy="5335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rot="12973800">
            <a:off x="-762120" y="6857640"/>
            <a:ext cx="5334120" cy="5335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 txBox="1"/>
          <p:nvPr/>
        </p:nvSpPr>
        <p:spPr>
          <a:xfrm rot="5400000">
            <a:off x="4857120" y="2533320"/>
            <a:ext cx="6553440" cy="179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0c0c0"/>
                </a:solidFill>
                <a:latin typeface="Arial Black"/>
              </a:rPr>
              <a:t>WORD 2</a:t>
            </a:r>
            <a:endParaRPr b="0" lang="en-US" sz="2400" spc="1" strike="noStrike">
              <a:ln w="0">
                <a:noFill/>
              </a:ln>
              <a:solidFill>
                <a:srgbClr val="c0c0c0"/>
              </a:solidFill>
              <a:latin typeface="Arial Black"/>
              <a:ea typeface="Arial Black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94CDA-6488-41CC-8B9C-70B5D2CECD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WORD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Štampanje dokume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WORD 2 ::</a:t>
            </a:r>
            <a:r>
              <a:rPr b="0" lang="sr-Latn-C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sr-Latn-CS" sz="2000" spc="-1" strike="noStrike">
                <a:solidFill>
                  <a:srgbClr val="ffffff"/>
                </a:solidFill>
                <a:latin typeface="Arial"/>
              </a:rPr>
              <a:t>ŠTAMPANJE DOKUM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5105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omande za štampanje i preview se mogu pozvati i iz menija i sa toolbara. Preporuka je da se komanda za štampanje (PRINT...) poziva iz menija, pošto se tada otvara dijalog sa dodatnim opcija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rint_04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3581280" cy="140796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pic>
        <p:nvPicPr>
          <p:cNvPr id="53" name="print_01" descr=""/>
          <p:cNvPicPr/>
          <p:nvPr/>
        </p:nvPicPr>
        <p:blipFill>
          <a:blip r:embed="rId2"/>
          <a:stretch/>
        </p:blipFill>
        <p:spPr>
          <a:xfrm>
            <a:off x="5410080" y="685800"/>
            <a:ext cx="2967120" cy="426708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1066680" y="3505320"/>
            <a:ext cx="175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ŠTAMPANJE </a:t>
            </a:r>
            <a:br>
              <a:rPr sz="1600"/>
            </a:b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(PRI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43200" y="25909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PREGLED </a:t>
            </a:r>
            <a:br>
              <a:rPr sz="1600"/>
            </a:b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(PRINT PREVIE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2819520" y="1447560"/>
            <a:ext cx="76176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828800" y="1447560"/>
            <a:ext cx="457200" cy="2057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514600" y="3200040"/>
            <a:ext cx="2971800" cy="685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43400" y="2819520"/>
            <a:ext cx="1066680" cy="152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WORD 2 ::</a:t>
            </a:r>
            <a:r>
              <a:rPr b="0" lang="sr-Latn-C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sr-Latn-CS" sz="2000" spc="-1" strike="noStrike">
                <a:solidFill>
                  <a:srgbClr val="ffffff"/>
                </a:solidFill>
                <a:latin typeface="Arial"/>
              </a:rPr>
              <a:t>ŠTAMPANJE DOKUM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53341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obra ideja je da se pre štampanja pozove komanda PRINT PREVIEW, kojom se dobija izgled dokumenta u štampi. Ovo je bitno, pošto se čak ni u PRINT LAYOUT pogledu ne dobija sasvim realan prikaz (npr. vidljivost brojeva strana). Iz PRINT PREVIEW-a se izlazi komandom CLO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rint_05" descr=""/>
          <p:cNvPicPr/>
          <p:nvPr/>
        </p:nvPicPr>
        <p:blipFill>
          <a:blip r:embed="rId1"/>
          <a:stretch/>
        </p:blipFill>
        <p:spPr>
          <a:xfrm>
            <a:off x="2057400" y="609480"/>
            <a:ext cx="3363840" cy="449604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sp>
        <p:nvSpPr>
          <p:cNvPr id="63" name=""/>
          <p:cNvSpPr/>
          <p:nvPr/>
        </p:nvSpPr>
        <p:spPr>
          <a:xfrm flipH="1" flipV="1">
            <a:off x="3657240" y="990360"/>
            <a:ext cx="2971800" cy="14475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5880" y="24382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CL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WORD 2 ::</a:t>
            </a:r>
            <a:r>
              <a:rPr b="0" lang="sr-Latn-C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sr-Latn-CS" sz="2000" spc="-1" strike="noStrike">
                <a:solidFill>
                  <a:srgbClr val="ffffff"/>
                </a:solidFill>
                <a:latin typeface="Arial"/>
              </a:rPr>
              <a:t>ŠTAMPANJE DOKUM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zivanjem komande PRINT sa toolbara, štampanje započinje odmah, dok se pozivom komande PRINT iz menija FILE, otvara dijalog sa opcijama (preporučljivo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 gornjem delu dijaloga su opcije vezane za štampač - tu je moguće izabrati konkretni uređaj (ako je instalirano više štampača) i podesiti njegove opcij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rint_02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5105520" cy="397332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sp>
        <p:nvSpPr>
          <p:cNvPr id="68" name=""/>
          <p:cNvSpPr/>
          <p:nvPr/>
        </p:nvSpPr>
        <p:spPr>
          <a:xfrm>
            <a:off x="6400800" y="1066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OPCIJE ŠTAMPAČ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867280" y="22860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ODABRANI ŠTAMPAČ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638320" y="1219320"/>
            <a:ext cx="1295640" cy="75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2971800" y="1371240"/>
            <a:ext cx="3276720" cy="1219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WORD 2 ::</a:t>
            </a:r>
            <a:r>
              <a:rPr b="0" lang="sr-Latn-C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sr-Latn-CS" sz="2000" spc="-1" strike="noStrike">
                <a:solidFill>
                  <a:srgbClr val="ffffff"/>
                </a:solidFill>
                <a:latin typeface="Arial"/>
              </a:rPr>
              <a:t>ŠTAMPANJE DOKUM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5105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 okviru COPIES se može odrediti broj primeraka koji će biti odštampan, kao i redosled kojim će se štampati primerci (uključena opcija COLLATE označava da se štampaju celi primerci, a isključena da se prvo štampaju sve prve strane, zatim sve druge it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rint_02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5105520" cy="397332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6172200" y="9144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BROJ PRIMERAK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5880" y="36576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REDOS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5410080" y="1219320"/>
            <a:ext cx="1524240" cy="1218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5257440" y="3047760"/>
            <a:ext cx="1523880" cy="609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WORD 2 ::</a:t>
            </a:r>
            <a:r>
              <a:rPr b="0" lang="sr-Latn-C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sr-Latn-CS" sz="2000" spc="-1" strike="noStrike">
                <a:solidFill>
                  <a:srgbClr val="ffffff"/>
                </a:solidFill>
                <a:latin typeface="Arial"/>
              </a:rPr>
              <a:t>ŠTAMPANJE DOKUM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4952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 okviru PAGE RANGE se može odabrati deo dokumenta koji će se štampati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pcija PAGES dozvoljava da se navedu brojevi stranica koji će se štampati i to bilo kao pojedine stranice odvojene zarezom, bilo kao rang obeležen povlakom. Npr.: "5,7,12-18, 22-" označava stranice 5, 7, 12 do 18, stranicu 22 i sve ostale do kraj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rint_02" descr=""/>
          <p:cNvPicPr/>
          <p:nvPr/>
        </p:nvPicPr>
        <p:blipFill>
          <a:blip r:embed="rId1"/>
          <a:stretch/>
        </p:blipFill>
        <p:spPr>
          <a:xfrm>
            <a:off x="3276720" y="762120"/>
            <a:ext cx="5105160" cy="397332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457200" y="6094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ALL:</a:t>
            </a:r>
            <a:br>
              <a:rPr sz="1600"/>
            </a:b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CEO DOKU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88620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SELECTION:</a:t>
            </a:r>
            <a:br>
              <a:rPr sz="1600"/>
            </a:b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SAMO SELEKTOVANI D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362320" y="1066680"/>
            <a:ext cx="1066680" cy="1371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0" y="2133720"/>
            <a:ext cx="1143000" cy="5331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2286000" y="2895120"/>
            <a:ext cx="1143000" cy="3812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981080" y="2742840"/>
            <a:ext cx="2743200" cy="1600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1523880"/>
            <a:ext cx="2209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CURRENT PAGE:</a:t>
            </a:r>
            <a:br>
              <a:rPr sz="1600"/>
            </a:b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STRANA NA KOJOJ JE KUR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743200"/>
            <a:ext cx="205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PAGES:</a:t>
            </a:r>
            <a:br>
              <a:rPr sz="1600"/>
            </a:b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SAMO NAVEDENE STRA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WORD 2 ::</a:t>
            </a:r>
            <a:r>
              <a:rPr b="0" lang="sr-Latn-C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sr-Latn-CS" sz="2000" spc="-1" strike="noStrike">
                <a:solidFill>
                  <a:srgbClr val="ffffff"/>
                </a:solidFill>
                <a:latin typeface="Arial"/>
              </a:rPr>
              <a:t>ŠTAMPANJE DOKUM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5181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adajuća lista PRINT označava koje će se stranice štampati -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sv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ALL PAGES IN RANGE), samo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neparn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ODD PAGES) ili samo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parn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EVEN PAGES) stranice. Ova opcija je pogodna za dvostrano štampanj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rint_02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5105520" cy="397368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6400800" y="4038480"/>
            <a:ext cx="205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KOJE ĆE SE</a:t>
            </a:r>
            <a:br>
              <a:rPr sz="1600"/>
            </a:b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STRANICE ŠTAMPA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2819160" y="4343040"/>
            <a:ext cx="3886200" cy="152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rint_03" descr=""/>
          <p:cNvPicPr/>
          <p:nvPr/>
        </p:nvPicPr>
        <p:blipFill>
          <a:blip r:embed="rId2"/>
          <a:stretch/>
        </p:blipFill>
        <p:spPr>
          <a:xfrm>
            <a:off x="3886200" y="1447920"/>
            <a:ext cx="4699080" cy="187956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sp>
        <p:nvSpPr>
          <p:cNvPr id="96" name=""/>
          <p:cNvSpPr/>
          <p:nvPr/>
        </p:nvSpPr>
        <p:spPr>
          <a:xfrm flipH="1" flipV="1">
            <a:off x="6324480" y="2743200"/>
            <a:ext cx="914400" cy="1295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1T10:37:37Z</dcterms:created>
  <dc:creator>Bedni Pucko</dc:creator>
  <dc:description/>
  <dc:language>en-US</dc:language>
  <cp:lastModifiedBy>Bedni Pucko</cp:lastModifiedBy>
  <dcterms:modified xsi:type="dcterms:W3CDTF">2004-11-21T13:07:48Z</dcterms:modified>
  <cp:revision>7</cp:revision>
  <dc:subject/>
  <dc:title>WORD 2</dc:title>
</cp:coreProperties>
</file>