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BC9AD-65AA-472C-9EEC-81DA10D34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E758D-8093-4A5C-A2DA-11A7EC3B2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85FC6-EEC7-4F55-BDE5-48B7681FF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FCBA9-FB98-46CB-97F0-8075BF925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0047C-DC9C-4685-9652-5B580E4EC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F601E-1B7E-41EC-9EA9-B2B156903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18C26-0ABF-4368-A6D9-7C79220CB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B1D20-E049-4F76-B3F2-9878D52CE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255F6-9518-4676-B4C6-FBAD1AA13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55E79-38A9-4AA7-A80C-470CBE0B2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E2F59-08FB-406E-B31A-444450EA4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D16A8-31AB-4B5B-9F26-105DFB24C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2973800">
            <a:off x="-838080" y="304200"/>
            <a:ext cx="5333760" cy="53316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c0c0c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 rot="12973800">
            <a:off x="-762120" y="1599840"/>
            <a:ext cx="5334120" cy="53352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c0c0c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 rot="12973800">
            <a:off x="-762120" y="2895120"/>
            <a:ext cx="5334120" cy="53352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c0c0c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 rot="12973800">
            <a:off x="-762120" y="4190400"/>
            <a:ext cx="5334120" cy="53316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c0c0c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 rot="12973800">
            <a:off x="-762120" y="5486040"/>
            <a:ext cx="5334120" cy="53352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c0c0c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 rot="12973800">
            <a:off x="-762120" y="6857640"/>
            <a:ext cx="5334120" cy="53352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c0c0c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 txBox="1"/>
          <p:nvPr/>
        </p:nvSpPr>
        <p:spPr>
          <a:xfrm rot="5400000">
            <a:off x="4857120" y="2533320"/>
            <a:ext cx="6553440" cy="179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c0c0c0"/>
                </a:solidFill>
                <a:latin typeface="Arial Black"/>
              </a:rPr>
              <a:t>WORD 2</a:t>
            </a:r>
            <a:endParaRPr b="0" lang="en-US" sz="2400" spc="1" strike="noStrike">
              <a:ln w="0">
                <a:noFill/>
              </a:ln>
              <a:solidFill>
                <a:srgbClr val="c0c0c0"/>
              </a:solidFill>
              <a:latin typeface="Arial Black"/>
              <a:ea typeface="Arial Black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282B9-24DC-4290-9267-E844EE0333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WORD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Pretra</a:t>
            </a:r>
            <a:r>
              <a:rPr b="1" i="1" lang="sr-Latn-CS" sz="3200" spc="-1" strike="noStrike">
                <a:solidFill>
                  <a:srgbClr val="000000"/>
                </a:solidFill>
                <a:latin typeface="Times New Roman"/>
              </a:rPr>
              <a:t>živanje i zame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Verdana"/>
              </a:rPr>
              <a:t>WORD 2 ::</a:t>
            </a:r>
            <a:r>
              <a:rPr b="0" lang="sr-Latn-C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sr-Latn-CS" sz="2000" spc="-1" strike="noStrike">
                <a:solidFill>
                  <a:srgbClr val="ffffff"/>
                </a:solidFill>
                <a:latin typeface="Arial"/>
              </a:rPr>
              <a:t>PRETRAŽIVANJE I ZAME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5105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U meniju EDIT se nalaze komande FIND i REPLACE, koje se odnose na pronalaženje zadatog teksta u dokumentu i zamenu pronađenog teksta novi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find_01" descr=""/>
          <p:cNvPicPr/>
          <p:nvPr/>
        </p:nvPicPr>
        <p:blipFill>
          <a:blip r:embed="rId1"/>
          <a:stretch/>
        </p:blipFill>
        <p:spPr>
          <a:xfrm>
            <a:off x="1523880" y="685800"/>
            <a:ext cx="2498760" cy="4267080"/>
          </a:xfrm>
          <a:prstGeom prst="rect">
            <a:avLst/>
          </a:prstGeom>
          <a:ln w="63360">
            <a:solidFill>
              <a:srgbClr val="000000"/>
            </a:solidFill>
            <a:miter/>
          </a:ln>
        </p:spPr>
      </p:pic>
      <p:sp>
        <p:nvSpPr>
          <p:cNvPr id="53" name=""/>
          <p:cNvSpPr/>
          <p:nvPr/>
        </p:nvSpPr>
        <p:spPr>
          <a:xfrm>
            <a:off x="5257800" y="2133720"/>
            <a:ext cx="289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0000"/>
                </a:solidFill>
                <a:latin typeface="Arial"/>
              </a:rPr>
              <a:t>FIND:: PRETRAŽIVAN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600" y="2362320"/>
            <a:ext cx="1752480" cy="121896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410080" y="3809880"/>
            <a:ext cx="2895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0000"/>
                </a:solidFill>
                <a:latin typeface="Arial"/>
              </a:rPr>
              <a:t>REPLACE:: ZAME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3886200"/>
            <a:ext cx="2057400" cy="763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Verdana"/>
              </a:rPr>
              <a:t>WORD 2 ::</a:t>
            </a:r>
            <a:r>
              <a:rPr b="0" lang="sr-Latn-C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sr-Latn-CS" sz="2000" spc="-1" strike="noStrike">
                <a:solidFill>
                  <a:srgbClr val="ffffff"/>
                </a:solidFill>
                <a:latin typeface="Arial"/>
              </a:rPr>
              <a:t>PRETRAŽIVANJE I ZAME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Dijalog za ove komande je zajednički, s tim što su FIND i REPLACE na odvojenim karticama. U polju FIND WHAT se unosi tekst koji se traži, a pokretanje traženja se vrši klikom na dugme FIND NEXT. Da bi se pronašla sledeća pojava traženog teksta, dovoljno je ponovo pritisnuti ovo dugme. Dugme MORE otvara dodatne opcije za pretragu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find_02" descr=""/>
          <p:cNvPicPr/>
          <p:nvPr/>
        </p:nvPicPr>
        <p:blipFill>
          <a:blip r:embed="rId1"/>
          <a:stretch/>
        </p:blipFill>
        <p:spPr>
          <a:xfrm>
            <a:off x="685800" y="1828800"/>
            <a:ext cx="5029200" cy="2036880"/>
          </a:xfrm>
          <a:prstGeom prst="rect">
            <a:avLst/>
          </a:prstGeom>
          <a:ln w="63360">
            <a:solidFill>
              <a:srgbClr val="000000"/>
            </a:solidFill>
            <a:miter/>
          </a:ln>
        </p:spPr>
      </p:pic>
      <p:sp>
        <p:nvSpPr>
          <p:cNvPr id="60" name=""/>
          <p:cNvSpPr/>
          <p:nvPr/>
        </p:nvSpPr>
        <p:spPr>
          <a:xfrm flipH="1">
            <a:off x="1523520" y="1371600"/>
            <a:ext cx="762120" cy="8380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886200" y="1447920"/>
            <a:ext cx="2209680" cy="11430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4647960" y="2895480"/>
            <a:ext cx="1447560" cy="5335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990720" y="838080"/>
            <a:ext cx="2895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0000"/>
                </a:solidFill>
                <a:latin typeface="Arial"/>
              </a:rPr>
              <a:t>KARTICE ZA IZBOR KOMAN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334120" y="1066680"/>
            <a:ext cx="289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0000"/>
                </a:solidFill>
                <a:latin typeface="Arial"/>
              </a:rPr>
              <a:t>TEKST KOJI SE TRAŽ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943600" y="2743200"/>
            <a:ext cx="289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0000"/>
                </a:solidFill>
                <a:latin typeface="Arial"/>
              </a:rPr>
              <a:t>FIND NEXT:: TRAŽEN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038480" y="4343400"/>
            <a:ext cx="2895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0000"/>
                </a:solidFill>
                <a:latin typeface="Arial"/>
              </a:rPr>
              <a:t>MORE:: DODATNE OPCI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H="1" flipV="1">
            <a:off x="3657600" y="3580920"/>
            <a:ext cx="533520" cy="7621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Verdana"/>
              </a:rPr>
              <a:t>WORD 2 ::</a:t>
            </a:r>
            <a:r>
              <a:rPr b="0" lang="sr-Latn-C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sr-Latn-CS" sz="2000" spc="-1" strike="noStrike">
                <a:solidFill>
                  <a:srgbClr val="ffffff"/>
                </a:solidFill>
                <a:latin typeface="Arial"/>
              </a:rPr>
              <a:t>PRETRAŽIVANJE I ZAME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4419720"/>
            <a:ext cx="83059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Sa uključenom prvom opcijom, za zadato npr. </a:t>
            </a:r>
            <a:r>
              <a:rPr b="0" lang="sr-Latn-CS" sz="1800" spc="-1" strike="noStrike">
                <a:solidFill>
                  <a:srgbClr val="3333cc"/>
                </a:solidFill>
                <a:latin typeface="Arial"/>
              </a:rPr>
              <a:t>pera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, WORD neće registrovati </a:t>
            </a:r>
            <a:r>
              <a:rPr b="0" lang="sr-Latn-CS" sz="1800" spc="-1" strike="noStrike">
                <a:solidFill>
                  <a:srgbClr val="3333cc"/>
                </a:solidFill>
                <a:latin typeface="Arial"/>
              </a:rPr>
              <a:t>Pera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1800" spc="-1" strike="noStrike">
                <a:solidFill>
                  <a:srgbClr val="3333cc"/>
                </a:solidFill>
                <a:latin typeface="Arial"/>
              </a:rPr>
              <a:t>PERA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i sl. Sa uključenom drugom opcijom, neće biti pronađen ni </a:t>
            </a:r>
            <a:r>
              <a:rPr b="0" lang="sr-Latn-CS" sz="1800" spc="-1" strike="noStrike">
                <a:solidFill>
                  <a:srgbClr val="3333cc"/>
                </a:solidFill>
                <a:latin typeface="Arial"/>
              </a:rPr>
              <a:t>pera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u </a:t>
            </a:r>
            <a:r>
              <a:rPr b="0" lang="sr-Latn-CS" sz="1800" spc="-1" strike="noStrike">
                <a:solidFill>
                  <a:srgbClr val="3333cc"/>
                </a:solidFill>
                <a:latin typeface="Arial"/>
              </a:rPr>
              <a:t>o</a:t>
            </a:r>
            <a:r>
              <a:rPr b="1" lang="sr-Latn-CS" sz="1800" spc="-1" strike="noStrike">
                <a:solidFill>
                  <a:srgbClr val="3333cc"/>
                </a:solidFill>
                <a:latin typeface="Arial"/>
              </a:rPr>
              <a:t>pera</a:t>
            </a:r>
            <a:r>
              <a:rPr b="0" lang="sr-Latn-CS" sz="1800" spc="-1" strike="noStrike">
                <a:solidFill>
                  <a:srgbClr val="3333cc"/>
                </a:solidFill>
                <a:latin typeface="Arial"/>
              </a:rPr>
              <a:t>cija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Opcija USE WILDCARDS pronalazi reči koristeći džoker znake (npr. </a:t>
            </a:r>
            <a:r>
              <a:rPr b="0" lang="sr-Latn-CS" sz="1800" spc="-1" strike="noStrike">
                <a:solidFill>
                  <a:srgbClr val="3333cc"/>
                </a:solidFill>
                <a:latin typeface="Arial"/>
              </a:rPr>
              <a:t>pe?a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sr-Latn-CS" sz="1800" spc="-1" strike="noStrike">
                <a:solidFill>
                  <a:srgbClr val="3333cc"/>
                </a:solidFill>
                <a:latin typeface="Arial"/>
              </a:rPr>
              <a:t>pepa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1800" spc="-1" strike="noStrike">
                <a:solidFill>
                  <a:srgbClr val="3333cc"/>
                </a:solidFill>
                <a:latin typeface="Arial"/>
              </a:rPr>
              <a:t>pena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1800" spc="-1" strike="noStrike">
                <a:solidFill>
                  <a:srgbClr val="3333cc"/>
                </a:solidFill>
                <a:latin typeface="Arial"/>
              </a:rPr>
              <a:t>peca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1800" spc="-1" strike="noStrike">
                <a:solidFill>
                  <a:srgbClr val="3333cc"/>
                </a:solidFill>
                <a:latin typeface="Arial"/>
              </a:rPr>
              <a:t>pera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... Ostale dve opcije se koriste u engleskom jeziku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Opcija SEARCH ima padajuću listu sa mogućnostima ALL, UP i DOWN, koje označavaju pravac u kome će se vršiti pretraga zavisno od pozicije kursora u dokumentu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find_03" descr=""/>
          <p:cNvPicPr/>
          <p:nvPr/>
        </p:nvPicPr>
        <p:blipFill>
          <a:blip r:embed="rId1"/>
          <a:stretch/>
        </p:blipFill>
        <p:spPr>
          <a:xfrm>
            <a:off x="3962520" y="1066680"/>
            <a:ext cx="4647960" cy="3283200"/>
          </a:xfrm>
          <a:prstGeom prst="rect">
            <a:avLst/>
          </a:prstGeom>
          <a:ln w="63360">
            <a:solidFill>
              <a:srgbClr val="000000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743200" y="1600200"/>
            <a:ext cx="1447920" cy="14479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80880" y="914400"/>
            <a:ext cx="289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0000"/>
                </a:solidFill>
                <a:latin typeface="Arial"/>
              </a:rPr>
              <a:t>MATCH CASE:: OBAVEZNO POKLAPANJE VELIKIH I MALIH SLOV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438280" y="2895480"/>
            <a:ext cx="1752840" cy="3049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52280" y="2209680"/>
            <a:ext cx="289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0000"/>
                </a:solidFill>
                <a:latin typeface="Arial"/>
              </a:rPr>
              <a:t>FIND WHOLE WORDS ONLY:: NE PRONALAZI DEO REČ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3352680"/>
            <a:ext cx="33530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Među opcijama koje se dobijaju klikom na MORE, su MATCH CASE i FIND WHOLE WORDS ONLY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find_04" descr=""/>
          <p:cNvPicPr/>
          <p:nvPr/>
        </p:nvPicPr>
        <p:blipFill>
          <a:blip r:embed="rId1"/>
          <a:stretch/>
        </p:blipFill>
        <p:spPr>
          <a:xfrm>
            <a:off x="3886200" y="990720"/>
            <a:ext cx="4572000" cy="3228840"/>
          </a:xfrm>
          <a:prstGeom prst="rect">
            <a:avLst/>
          </a:prstGeom>
          <a:ln w="63360">
            <a:solidFill>
              <a:srgbClr val="000000"/>
            </a:solidFill>
            <a:miter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Verdana"/>
              </a:rPr>
              <a:t>WORD 2 ::</a:t>
            </a:r>
            <a:r>
              <a:rPr b="0" lang="sr-Latn-C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sr-Latn-CS" sz="2000" spc="-1" strike="noStrike">
                <a:solidFill>
                  <a:srgbClr val="ffffff"/>
                </a:solidFill>
                <a:latin typeface="Arial"/>
              </a:rPr>
              <a:t>PRETRAŽIVANJE I ZAME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44197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8000"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Biranjem kartice REPLACE, u dijalogu se pojavljuju i polje za unos teksta kojim će biti zamenjen pronađeni tekst (REPLACE WITH), kao i dve komande za vršenje zamena: REPLACE za pojedinačne zamene (gde WORD pronalazi jednu po jednu pojavu traženog teksta) i REPLACE ALL kojom odmah bivaju zamenjene sve pojave traženog teksta u dokumentu zadatim tekstom. Ako se primeni na selektovanom delu teksta, komanda REPLACE ALL operiše samo unutar selekcije, da bi na kraju postavila pitanje da li da pretraži i ostatak dokument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743200" y="1600200"/>
            <a:ext cx="2133720" cy="4572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80880" y="914400"/>
            <a:ext cx="289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0000"/>
                </a:solidFill>
                <a:latin typeface="Arial"/>
              </a:rPr>
              <a:t>REPLACE WITH:: TEKST KOJIM TREBA ZEMENITI NAĐENI TEK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3124080" y="2514600"/>
            <a:ext cx="2514600" cy="9907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57200" y="3429000"/>
            <a:ext cx="289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0000"/>
                </a:solidFill>
                <a:latin typeface="Arial"/>
              </a:rPr>
              <a:t>REPLACE I REPLACE AL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124080" y="2590920"/>
            <a:ext cx="3200400" cy="9144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find_05" descr=""/>
          <p:cNvPicPr/>
          <p:nvPr/>
        </p:nvPicPr>
        <p:blipFill>
          <a:blip r:embed="rId1"/>
          <a:stretch/>
        </p:blipFill>
        <p:spPr>
          <a:xfrm>
            <a:off x="5221440" y="685800"/>
            <a:ext cx="3089160" cy="4952880"/>
          </a:xfrm>
          <a:prstGeom prst="rect">
            <a:avLst/>
          </a:prstGeom>
          <a:ln w="63360">
            <a:solidFill>
              <a:srgbClr val="000000"/>
            </a:solidFill>
            <a:miter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Verdana"/>
              </a:rPr>
              <a:t>WORD 2 ::</a:t>
            </a:r>
            <a:r>
              <a:rPr b="0" lang="sr-Latn-C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sr-Latn-CS" sz="2000" spc="-1" strike="noStrike">
                <a:solidFill>
                  <a:srgbClr val="ffffff"/>
                </a:solidFill>
                <a:latin typeface="Arial"/>
              </a:rPr>
              <a:t>PRETRAŽIVANJE I ZAME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685800"/>
            <a:ext cx="4114800" cy="914400"/>
          </a:xfrm>
          <a:prstGeom prst="rect">
            <a:avLst/>
          </a:prstGeom>
          <a:solidFill>
            <a:srgbClr val="808080"/>
          </a:soli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4114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00"/>
                </a:solidFill>
                <a:latin typeface="Arial"/>
              </a:rPr>
              <a:t>SAVET::</a:t>
            </a:r>
            <a:r>
              <a:rPr b="1" lang="sr-Latn-C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Ako se u polju REPLACE WITH ostavi prazno polje, pronađeni tekst će biti izbrisa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ritiskom na dugme SPECIAL, dobija se meni u kome je moguće odabrati neki od specijalnih znakova. Posebno su značajni PARAGRAPH MARK koji označava kraj pasusa (odnosno pritisnut ENTER) i TAB CHARACTER koji se odnosi na tabulato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ARAGRAPH MARK se u poljima za unos obeležava kao 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^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a TAB CHARACTER kao 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^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Verdana"/>
              </a:rPr>
              <a:t>WORD 2 ::</a:t>
            </a:r>
            <a:r>
              <a:rPr b="0" lang="sr-Latn-C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sr-Latn-CS" sz="2000" spc="-1" strike="noStrike">
                <a:solidFill>
                  <a:srgbClr val="ffffff"/>
                </a:solidFill>
                <a:latin typeface="Arial"/>
              </a:rPr>
              <a:t>PRETRAŽIVANJE I ZAME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43434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Dugmence FORMAT služi za poziv menija gde se može definisati posebno formatiranje traženog teksta. Iako postoji više opcija, ovde će se najviše koristiti opcija FO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Moguće je tražiti i samo formatiranje, ako se u poljima za unos ne navede nikakav teks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find_06" descr=""/>
          <p:cNvPicPr/>
          <p:nvPr/>
        </p:nvPicPr>
        <p:blipFill>
          <a:blip r:embed="rId1"/>
          <a:stretch/>
        </p:blipFill>
        <p:spPr>
          <a:xfrm>
            <a:off x="1905120" y="838080"/>
            <a:ext cx="5295960" cy="2934000"/>
          </a:xfrm>
          <a:prstGeom prst="rect">
            <a:avLst/>
          </a:prstGeom>
          <a:ln w="63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685800" y="3124080"/>
            <a:ext cx="3657600" cy="1981440"/>
          </a:xfrm>
          <a:prstGeom prst="rect">
            <a:avLst/>
          </a:prstGeom>
          <a:solidFill>
            <a:srgbClr val="808080"/>
          </a:soli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Verdana"/>
              </a:rPr>
              <a:t>WORD 2 ::</a:t>
            </a:r>
            <a:r>
              <a:rPr b="0" lang="sr-Latn-C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sr-Latn-CS" sz="2000" spc="-1" strike="noStrike">
                <a:solidFill>
                  <a:srgbClr val="ffffff"/>
                </a:solidFill>
                <a:latin typeface="Arial"/>
              </a:rPr>
              <a:t>PRETRAŽIVANJE I ZAME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762120"/>
            <a:ext cx="3657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Dijalog za karakteristike fonta pruža sve mogućnosti kao i dijalog za napredno podešavanje karakteristika font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Moguće je odabrati poseban font, stil ispisa (BOLD, ITALIC...), veličinu, boju i s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00"/>
                </a:solidFill>
                <a:latin typeface="Arial"/>
              </a:rPr>
              <a:t>SAVET::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Ako se nekoj opciji ne dodeli vrednost, neće biti uzeta u obzir pri pretrazi.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CheckBox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opcije mogu imati tri stanja - isključeno (traži se da nije), uključeno (traži se da jeste) i "sivo" (neće se uzeti u obzir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find_07" descr=""/>
          <p:cNvPicPr/>
          <p:nvPr/>
        </p:nvPicPr>
        <p:blipFill>
          <a:blip r:embed="rId1"/>
          <a:stretch/>
        </p:blipFill>
        <p:spPr>
          <a:xfrm>
            <a:off x="4572000" y="838080"/>
            <a:ext cx="4057560" cy="4419720"/>
          </a:xfrm>
          <a:prstGeom prst="rect">
            <a:avLst/>
          </a:prstGeom>
          <a:ln w="63360">
            <a:solidFill>
              <a:srgbClr val="000000"/>
            </a:solidFill>
            <a:miter/>
          </a:ln>
        </p:spPr>
      </p:pic>
      <p:sp>
        <p:nvSpPr>
          <p:cNvPr id="95" name=""/>
          <p:cNvSpPr/>
          <p:nvPr/>
        </p:nvSpPr>
        <p:spPr>
          <a:xfrm>
            <a:off x="762120" y="5410080"/>
            <a:ext cx="7772400" cy="914400"/>
          </a:xfrm>
          <a:prstGeom prst="rect">
            <a:avLst/>
          </a:prstGeom>
          <a:solidFill>
            <a:srgbClr val="808080"/>
          </a:soli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62120" y="541008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00"/>
                </a:solidFill>
                <a:latin typeface="Arial"/>
              </a:rPr>
              <a:t>SAVET::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Podvlačenje (UNDERLINE) koje se nalazi na toolbaru u WORD-u, odgovara trećoj opciji u padajućoj listi UNDERLINE STYLE (obeleženo na slici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Verdana"/>
              </a:rPr>
              <a:t>WORD 2 ::</a:t>
            </a:r>
            <a:r>
              <a:rPr b="0" lang="sr-Latn-C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sr-Latn-CS" sz="2000" spc="-1" strike="noStrike">
                <a:solidFill>
                  <a:srgbClr val="ffffff"/>
                </a:solidFill>
                <a:latin typeface="Arial"/>
              </a:rPr>
              <a:t>PRETRAŽIVANJE I ZAME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43434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Opisi formata koji su zadati za traženje, odnosno zamenu, se nalaze neposredno ispod polja za un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ri unošenju novog formatiranja, potrebno je obavezno kliknuti na odgovarajuće polje za unos i odabrati komandu NO FORMATTING, da bi se obrisalo prethodno formatiranje. Ovaj korak je neophodan jer bi se u suprotnom formatiranje odnosilo na dopunu postojećeg stanj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find_08" descr=""/>
          <p:cNvPicPr/>
          <p:nvPr/>
        </p:nvPicPr>
        <p:blipFill>
          <a:blip r:embed="rId1"/>
          <a:stretch/>
        </p:blipFill>
        <p:spPr>
          <a:xfrm>
            <a:off x="3809880" y="838080"/>
            <a:ext cx="4673880" cy="3272040"/>
          </a:xfrm>
          <a:prstGeom prst="rect">
            <a:avLst/>
          </a:prstGeom>
          <a:ln w="63360">
            <a:solidFill>
              <a:srgbClr val="000000"/>
            </a:solidFill>
            <a:miter/>
          </a:ln>
        </p:spPr>
      </p:pic>
      <p:sp>
        <p:nvSpPr>
          <p:cNvPr id="100" name=""/>
          <p:cNvSpPr/>
          <p:nvPr/>
        </p:nvSpPr>
        <p:spPr>
          <a:xfrm>
            <a:off x="1981080" y="1143000"/>
            <a:ext cx="2819520" cy="5335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990720" y="8380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0000"/>
                </a:solidFill>
                <a:latin typeface="Arial"/>
              </a:rPr>
              <a:t>OPIS FORM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981080" y="1143000"/>
            <a:ext cx="2819520" cy="9907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666880" y="3124080"/>
            <a:ext cx="3657600" cy="6858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09480" y="2743200"/>
            <a:ext cx="2210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0000"/>
                </a:solidFill>
                <a:latin typeface="Arial"/>
              </a:rPr>
              <a:t>NO FORMATTING:: PONIŠTAVANJE FORMATIRANJ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1T10:37:37Z</dcterms:created>
  <dc:creator>Bedni Pucko</dc:creator>
  <dc:description/>
  <dc:language>en-US</dc:language>
  <cp:lastModifiedBy> </cp:lastModifiedBy>
  <dcterms:modified xsi:type="dcterms:W3CDTF">2007-01-31T11:06:00Z</dcterms:modified>
  <cp:revision>16</cp:revision>
  <dc:subject/>
  <dc:title>WORD 2</dc:title>
</cp:coreProperties>
</file>