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BF47-74A2-4FD8-B4E0-E528AC2C7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8A54-6803-4D4F-BD28-F52EE22AA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B43F-264D-4711-8424-5FEF042FF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5FC2-B6D2-4CA0-A014-5BDDA9560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4AA6-58CA-4E01-9261-68CFEFB2E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998D-DA97-46EC-B7DE-D6BDB7DA1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078B-7E8A-4362-8565-EE477FF4F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922C-59F0-4CA0-B694-A7D78BC40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52DE-F7EF-42C2-B8C7-CECBCB5C4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43F5-D0E1-4AB4-B71B-95690FC54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72FE-D4E5-4A92-8265-A01E6641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D40B-748A-4A0A-9DD3-C0987943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2973800">
            <a:off x="-838080" y="304200"/>
            <a:ext cx="5333760" cy="5331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rot="12973800">
            <a:off x="-762120" y="1599840"/>
            <a:ext cx="5334120" cy="5335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 rot="12973800">
            <a:off x="-762120" y="2895120"/>
            <a:ext cx="5334120" cy="5335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rot="12973800">
            <a:off x="-762120" y="4190400"/>
            <a:ext cx="5334120" cy="5331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rot="12973800">
            <a:off x="-762120" y="5486040"/>
            <a:ext cx="5334120" cy="5335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rot="12973800">
            <a:off x="-762120" y="6857640"/>
            <a:ext cx="5334120" cy="5335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 txBox="1"/>
          <p:nvPr/>
        </p:nvSpPr>
        <p:spPr>
          <a:xfrm rot="5400000">
            <a:off x="4857120" y="2533320"/>
            <a:ext cx="6553440" cy="179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0c0c0"/>
                </a:solidFill>
                <a:latin typeface="Arial Black"/>
              </a:rPr>
              <a:t>WORD 1</a:t>
            </a:r>
            <a:endParaRPr b="0" lang="en-US" sz="2400" spc="1" strike="noStrike">
              <a:ln w="0">
                <a:noFill/>
              </a:ln>
              <a:solidFill>
                <a:srgbClr val="c0c0c0"/>
              </a:solidFill>
              <a:latin typeface="Arial Black"/>
              <a:ea typeface="Arial Black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2B76B-D568-4FA9-9BD0-17E7C6F85A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WORD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sn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419720" y="228600"/>
            <a:ext cx="4003560" cy="455292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WORD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 ::</a:t>
            </a:r>
            <a:r>
              <a:rPr b="0" lang="sr-Latn-C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OSNO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4952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WORD inicijalno nije prilagođen našem jeziku. Jedan od problema je i stalno pretvaranje veznika "i" u veliko slovo. Ovo se rešava isključivanjem opcija u meniju TOOLS – AUTOCORRECT OPTIONS, kartica AUTOCORRECT (zavisno od ličnih želja moguće je isključiti i opcije na drugim karticam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3200400"/>
            <a:ext cx="2743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CORRECT... cAPS lOCK (ispravlja ukoliko ostavimo velika slov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685800"/>
            <a:ext cx="2514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CORRECT TWo INitial... (ispravlja dva velika slova na početku reč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590920" y="2286000"/>
            <a:ext cx="2057400" cy="990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19520" y="1066680"/>
            <a:ext cx="1904760" cy="3812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590920" y="2514600"/>
            <a:ext cx="2133360" cy="17524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4114800"/>
            <a:ext cx="2362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REPLACE TEXT...    (za zamenu slova "i"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1905120"/>
            <a:ext cx="2514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CAPITALIZE... (automatska velika slova, npr. Posle tačk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438280" y="1905120"/>
            <a:ext cx="2210040" cy="3808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495680" y="228600"/>
            <a:ext cx="3884760" cy="456552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WORD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 ::</a:t>
            </a:r>
            <a:r>
              <a:rPr b="0" lang="sr-Latn-C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OSNO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4952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ruga iritirajuća pojava je što WORD stalno proverava ispravnost pisanja (engleskog jezika) i naše reči podvlači crvenom bojom. U meniju TOOLS - OPTIONS na kartici SPELLING &amp; GRAMMAR treba isključiti sve opcije (ukoliko ne pišemo na engleskom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2280" y="160020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ISKLJUČUJEMO SVE OPCI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1905120" y="1904760"/>
            <a:ext cx="2666880" cy="759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05120" y="1981080"/>
            <a:ext cx="2819160" cy="12193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181480" y="838080"/>
            <a:ext cx="3530880" cy="276876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WORD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 ::</a:t>
            </a:r>
            <a:r>
              <a:rPr b="0" lang="sr-Latn-C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OSNO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4952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 meniju FILE se nalaze osnovne komande za rad sa dokumentom. NEW, OPEN i CLOSE su za kreiranje novog, otvaranje starog i zatvaranje dokumenta. Komanda SAVE snima dokument pod postojećim imenom, a SAVE AS snima dokument pod novim imenom. Za nov dokument je svejedno da li koristimo SAVE ili SAVE AS (uvek moramo da unesemo im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2280" y="2971800"/>
            <a:ext cx="3048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ISKLJUČUJE DOKUMENT (ALI NE I WOR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52480" y="114300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KREIRA NOV DOKU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2819520" y="2209320"/>
            <a:ext cx="2666880" cy="1143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1447920"/>
            <a:ext cx="2286000" cy="152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2590920" y="1905120"/>
            <a:ext cx="2819160" cy="457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21337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UČITAVA POSTOJEĆI FAJ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19320" y="4038480"/>
            <a:ext cx="304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SNIMANJE DOKUME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248520" y="4038480"/>
            <a:ext cx="2361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SNIMANJE POD NOVIM IMEN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3657600" y="2590920"/>
            <a:ext cx="1981080" cy="1371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6324480" y="2819160"/>
            <a:ext cx="1067040" cy="1143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4965480" cy="327168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WORD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 ::</a:t>
            </a:r>
            <a:r>
              <a:rPr b="0" lang="sr-Latn-C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OSNO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46479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ijalozi za učitavanje, odnosno snimanje su slični. Glavni deo zauzima spisak fajlova u trenutnom folderu. Iznad se nalazi padajuća lista iz koje biramo uređaj (hard disk, disketa, CD) i komande za izlazak iz foldera i kreiranje novog foldera, kao i opcije za pogled na fajlove (ikonice, spisak...). U donjem delu se nalazi polje za unos imena i izbor tipa fajla (najčešće je to WORD DOCUMENT, odnosno DOC fajl). Kom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OPEN, odnosno SAVE služe za učitavanje i snimanje, dok CANCEL služi za odustajanj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400800" y="297180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IME FAJ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952880" y="304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IZBOR UREĐA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2514240" y="3200400"/>
            <a:ext cx="4343400" cy="838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2514240" y="533520"/>
            <a:ext cx="2514600" cy="990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3657600" y="914400"/>
            <a:ext cx="2666880" cy="6094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248520" y="68580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IZLAZAK IZ FOLDE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266720" y="1447920"/>
            <a:ext cx="2590920" cy="759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3123720" y="2209680"/>
            <a:ext cx="3429000" cy="228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3428640" y="4038480"/>
            <a:ext cx="3048120" cy="228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477120" y="1905120"/>
            <a:ext cx="19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SPISAK FAJLOVA U FOLDER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477120" y="129528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NOV FOL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943600" y="380988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TIP FAJ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362320" y="609480"/>
            <a:ext cx="6248160" cy="351468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WORD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 ::</a:t>
            </a:r>
            <a:r>
              <a:rPr b="0" lang="sr-Latn-C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OSNO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4343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ada selektujemo deo teksta, komande koje biramo se odnose na taj deo teksta. Selekcija se vrši mišem (prevlačenje + levo dugme) ili tastaturom (bilo koji taster za kretanje + SHIFT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elekcija celog reda se obavlja kada kliknemo mišem ispred reda. Selekcija celog pasusa se obavlja duplim klikom, a kada kliknemo tri puta, selektujemo ceo dokument (isto kao komanda EDIT - SELECT ALL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koliko pritisnemo neki taster - taj znak će uobičajeno zameniti ceo tekst u selekciji. Ovako se tekst može lako slučajno obrisat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52280" y="2362320"/>
            <a:ext cx="1752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0000"/>
                </a:solidFill>
                <a:latin typeface="Arial"/>
              </a:rPr>
              <a:t>SELEKTOVANI DEO TEK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828800" y="2819520"/>
            <a:ext cx="1600200" cy="759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638680" y="380880"/>
            <a:ext cx="3078360" cy="457200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WORD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 ::</a:t>
            </a:r>
            <a:r>
              <a:rPr b="0" lang="sr-Latn-C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OSNO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5181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manda COPY pamti ono što je selektovano. Komanda CUT pamti ono što je selektovano i briše ga iz dokument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ve dve komande funkcionišu samo ako je deo teksta selektova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emorija u kojoj se vrši pamćenje selektovanog teksta se naziva CLIPBOAR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" y="259092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KOMANDE CUT, COPY i PA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2590920" y="2057040"/>
            <a:ext cx="3504960" cy="762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590920" y="1371600"/>
            <a:ext cx="3504960" cy="1447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590920" y="1599840"/>
            <a:ext cx="3504960" cy="12193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809880"/>
            <a:ext cx="4419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 osnovne komande za rad sa tekstom spadaju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dupliciranj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premeštanj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 Za to se koriste tri komande iz menija EDIT - CUT, COPY i PAS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4920" y="685800"/>
            <a:ext cx="2971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KOMANDA UNDO NAS VRAĆA KORAK NAZAD AKO POGREŠI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124080" y="914040"/>
            <a:ext cx="3048120" cy="152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114800" y="838080"/>
            <a:ext cx="4280040" cy="311472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WORD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 ::</a:t>
            </a:r>
            <a:r>
              <a:rPr b="0" lang="sr-Latn-C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OSNO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manda PASTE služi za ispis onoga što je zapamćen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 pravljenje duplikata se koristi sledeća kombinacija - selektovanje, COPY, biranje novog mesta, PAS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 premeštanje se koristi slična kombinacija - selektovanje, CUT, biranje novog mesta, PAS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ve komande postoje i u POP-UP meniju (desno dugme miša), na toolbar-u i na tastaturi (CTRL+X, CTRL+C i CTRL+V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koliko smo dovoljno spretni, selektovani deo teksta možemo premestiti i tako što ga prevučemo miš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2057400"/>
            <a:ext cx="24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ISTE KOMANDE POSTOJE I U POP-UP MENIJ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590920" y="2666880"/>
            <a:ext cx="3657600" cy="5335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7219800" cy="160956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WORD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 ::</a:t>
            </a:r>
            <a:r>
              <a:rPr b="0" lang="sr-Latn-C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OSNO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42667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snovne komande za formatiranje ispisa su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adajuća lista za izbor fonta (vrsta slo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adajuća lista za veličinu slova - vrednosti se mogu i ručno une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mande za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PODEBLJAN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ZAKRIVLJEN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PODVUČEN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isp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manda za promenu boje tek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ve komande se odnose na selektovani tek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34320" y="14479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BO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95280" y="144792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FO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391520" y="2209680"/>
            <a:ext cx="304560" cy="762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133720"/>
            <a:ext cx="2286000" cy="838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09880" y="2133720"/>
            <a:ext cx="2971800" cy="838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981080" y="144792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VELIČ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76720" y="2133720"/>
            <a:ext cx="1371600" cy="838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95480" y="2133720"/>
            <a:ext cx="381240" cy="7617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1371240" y="2057400"/>
            <a:ext cx="685800" cy="990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581280" y="685800"/>
            <a:ext cx="32767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B - BOLD (MASN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I - ITALICS (KURZIVN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U - UNDERLINE (PODVUČEN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981080" y="1447920"/>
            <a:ext cx="5220000" cy="334008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WORD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 ::</a:t>
            </a:r>
            <a:r>
              <a:rPr b="0" lang="sr-Latn-C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OSNO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5486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mande za poravnanje omogućuju da se tekst poravna po levoj, desn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ili obe margine kao i da se centri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124080" y="1371600"/>
            <a:ext cx="762120" cy="457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8229600" cy="372888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WORD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 ::</a:t>
            </a:r>
            <a:r>
              <a:rPr b="0" lang="sr-Latn-C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OSNO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5715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WORD je program za obradu teksta. Tokom raznih verzija, WORD je stekao i mnoge osobine programa za pripremu za štamp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3880" y="60948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TOOLB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60948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ME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0" y="914400"/>
            <a:ext cx="380880" cy="1371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914400"/>
            <a:ext cx="381240" cy="1143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05320" y="45720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LENJIR (RUL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1066680"/>
            <a:ext cx="152640" cy="1600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772400" y="914400"/>
            <a:ext cx="838080" cy="26668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5257440" y="1143000"/>
            <a:ext cx="762120" cy="23623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83808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TEK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0" y="60948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SCROLL B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962520" y="838080"/>
            <a:ext cx="4514760" cy="294192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WORD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 ::</a:t>
            </a:r>
            <a:r>
              <a:rPr b="0" lang="sr-Latn-C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OSNO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5105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roz tekst se krećemo pomoću miša ili tastature. Na tastaturi koristimo KURSORSKE TASTERE (strelice), PAGE UP i PAGE DOWN (za pomeranje jednog “ekrana” gore ili dole), kao i HOME i END (početak, odnosno kraj linij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205740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HOME i 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00200" y="68580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PAGE UP i PAGE D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286000" y="1828800"/>
            <a:ext cx="3505320" cy="457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914400"/>
            <a:ext cx="2895480" cy="6094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895480" y="3123720"/>
            <a:ext cx="2590920" cy="838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71600" y="388620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KURSO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962520" y="838080"/>
            <a:ext cx="4514760" cy="294192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WORD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 ::</a:t>
            </a:r>
            <a:r>
              <a:rPr b="0" lang="sr-Latn-C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OSNO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5105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Za unos teksta se koriste alfanumerički tasteri (slova i brojke). Taster SHIFT služi za velika slova i simbole. Da bi se napravio nov pasus (WORD sam prelazi u novi red), koristi se taster ENTE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Za brisanje teksta se koriste tasteri BACKSPACE (briše znakove sa leve strane kursora) i DELETE (briše znakove sa desne strane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20574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DE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38080" y="8380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BACK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828800" y="1980720"/>
            <a:ext cx="3657600" cy="228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362320" y="1143000"/>
            <a:ext cx="2133360" cy="6094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86000" y="2895120"/>
            <a:ext cx="2057400" cy="838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295280" y="35812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SHI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05720" y="44197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E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162920" y="2742840"/>
            <a:ext cx="990360" cy="16765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5028840" y="2514600"/>
            <a:ext cx="2133720" cy="1905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962520" y="838080"/>
            <a:ext cx="4514760" cy="294192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WORD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 ::</a:t>
            </a:r>
            <a:r>
              <a:rPr b="0" lang="sr-Latn-C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OSNO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5105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ter INSERT slu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rebacivanje i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đu INSERT (tekst se ubacuje između postojećih znakova) i OVERWRITE (tekst se unosi preko postojećih znakova) načina unosa tekst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koliko numerička tastatura ne ispisuje cifre, potrebno je pritisnuti taster NUM LO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00200" y="34290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NUM 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38080" y="8380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INSE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895480" y="1599840"/>
            <a:ext cx="3810240" cy="1981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57400" y="1066680"/>
            <a:ext cx="3352680" cy="5335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48320" y="4191120"/>
            <a:ext cx="2361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NUMERIČKA TASTAT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867280" y="2590560"/>
            <a:ext cx="1371600" cy="1600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286000" y="838080"/>
            <a:ext cx="6362640" cy="231156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WORD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 ::</a:t>
            </a:r>
            <a:r>
              <a:rPr b="0" lang="sr-Latn-C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OSNO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4952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snovna dva toolbara su STANDARD i FORMATTING. Desnim klikom miša na toolbar se dobija iskačući meni (pop-up) iz koga biramo koje toolbarove želimo da imamo na ekranu. Promena sadržaja toolbara (dodavanje novih alata i sl.) se obavlja izborom komande CUSTOMIZE iz tog istog menij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114800" y="38098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MENI ZA BIRANJE TOOLBA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2280" y="2362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STAND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5334120" y="2742840"/>
            <a:ext cx="1447560" cy="10666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523880" y="1676520"/>
            <a:ext cx="1447920" cy="838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2362320" y="2057400"/>
            <a:ext cx="1523880" cy="1828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388620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FORMAT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419720" y="685800"/>
            <a:ext cx="4012920" cy="407664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WORD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 ::</a:t>
            </a:r>
            <a:r>
              <a:rPr b="0" lang="sr-Latn-C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OSNO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5105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eličina dokumenta se određuje komandom za zumiranje. Moguće je odabrati neku vrednost ili otkucati veličinu koju želimo. Ova komanda samo menja pogled na dokument, stvarna veličina slova se ne menj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05120" y="19051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ZO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429000" y="1600200"/>
            <a:ext cx="3124080" cy="457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648320" y="533520"/>
            <a:ext cx="3670200" cy="417816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WORD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 ::</a:t>
            </a:r>
            <a:r>
              <a:rPr b="0" lang="sr-Latn-C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OSNO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54860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a bi prikazali lenjire (horizontalni i vertikalni) treba da odaberemo opciju RULER. Ukoliko se vertikalni lenjir ni tada ne vidi, potrebno je odabrati opciju VERTICAL RULER u meniju TOOLS – OPTINOS, na kartici VIE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2819520"/>
            <a:ext cx="17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PRIKAZ LENJI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12193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PRINT LAYOUT POG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48120" y="3048120"/>
            <a:ext cx="2057400" cy="3045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29000" y="1523880"/>
            <a:ext cx="1676520" cy="3812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3657600"/>
            <a:ext cx="40384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ačin prikaza dokumenta se određuje grupom komandi iz menija VIEW. Uobičajeno se radi u NORMAL pogledu ili PRINT LAYOUT (koji najpribližnije prikazuje kako će dokument izgledati na papiru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8034120" cy="68436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WORD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 ::</a:t>
            </a:r>
            <a:r>
              <a:rPr b="0" lang="sr-Latn-C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OSNO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5486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a lenjiru razlikujemo dva glavna dela – BELI, koji označava poziciju teksta na papiru i SIVI, koji označava margine na stranic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86200" y="41148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MARG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4038480" y="1066680"/>
            <a:ext cx="533520" cy="12193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1295280" y="2362320"/>
            <a:ext cx="3353040" cy="17524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572000" y="2362320"/>
            <a:ext cx="3276720" cy="17524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733920" y="76212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GLAVNI D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1T10:37:37Z</dcterms:created>
  <dc:creator>Bedni Pucko</dc:creator>
  <dc:description/>
  <dc:language>en-US</dc:language>
  <cp:lastModifiedBy> </cp:lastModifiedBy>
  <dcterms:modified xsi:type="dcterms:W3CDTF">2007-01-31T10:58:11Z</dcterms:modified>
  <cp:revision>18</cp:revision>
  <dc:subject/>
  <dc:title>WORD 2</dc:title>
</cp:coreProperties>
</file>