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DDBC-9C68-44E5-B876-14D1BFAFD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FD8A-C385-4A92-B4FF-FA3D662EE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CE2F-3559-414A-84CA-A5FD91091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7460-6855-4A94-9500-EB9D6A9C7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2B36-2F08-49C6-A30F-2D3F354C1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E47C-20AA-45DC-8394-A3108F9F1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9206-F4C6-44B9-977D-FA9E1B570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405B-BF93-452B-9041-7631422C7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3CBC-F91C-44CE-89C1-C03D66555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A026-25D3-4526-B598-3805C26C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B99F-1A84-439F-89E2-DA74D131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F11E-D007-410C-A965-3A6EB9DE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2973800">
            <a:off x="-838080" y="304200"/>
            <a:ext cx="5333760" cy="5331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rot="12973800">
            <a:off x="-762120" y="1599840"/>
            <a:ext cx="5334120" cy="5335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rot="12973800">
            <a:off x="-762120" y="2895120"/>
            <a:ext cx="5334120" cy="5335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rot="12973800">
            <a:off x="-762120" y="4190400"/>
            <a:ext cx="5334120" cy="5331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rot="12973800">
            <a:off x="-762120" y="5486040"/>
            <a:ext cx="5334120" cy="5335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rot="12973800">
            <a:off x="-762120" y="6857640"/>
            <a:ext cx="5334120" cy="5335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 txBox="1"/>
          <p:nvPr/>
        </p:nvSpPr>
        <p:spPr>
          <a:xfrm rot="5400000">
            <a:off x="4857120" y="2533320"/>
            <a:ext cx="6553440" cy="179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0c0c0"/>
                </a:solidFill>
                <a:latin typeface="Arial Black"/>
              </a:rPr>
              <a:t>WORD 5</a:t>
            </a:r>
            <a:endParaRPr b="0" lang="en-US" sz="2400" spc="1" strike="noStrike">
              <a:ln w="0">
                <a:noFill/>
              </a:ln>
              <a:solidFill>
                <a:srgbClr val="c0c0c0"/>
              </a:solidFill>
              <a:latin typeface="Arial Black"/>
              <a:ea typeface="Arial Black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E2F95-C300-4820-B5BB-8850345CB6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WORD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000000"/>
                </a:solidFill>
                <a:latin typeface="Times New Roman"/>
              </a:rPr>
              <a:t>Table of 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6451560" cy="17319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WORD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hr-HR" sz="2000" spc="-1" strike="noStrike">
                <a:solidFill>
                  <a:srgbClr val="ffffff"/>
                </a:solidFill>
                <a:latin typeface="Arial"/>
              </a:rPr>
              <a:t>TABLE OF CONT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41907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mesto ručnog kreiranja, WORD nam pruža mogućnost da automatski generiše sadržaj. Ova mogućnost se zasniva na ideji da su naslovi ispisani jednim stilom, podnaslovi drugim it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Za naslove se inicijalno podrazumeva stil HEADING 1, za podnaslove HEADING 2, za pod-podnaslove HEADING 3 it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Komanda za automatsko kreiranje sadržaja je INSERT – REFERENCE – INDEX AND TABLES, u kojoj postoje 4 kartice, ali ovaj put nas zanima samo druga po redu: TABLE OF CONT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324480" y="350532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0000"/>
                </a:solidFill>
                <a:latin typeface="Arial"/>
              </a:rPr>
              <a:t>PRIMER SADRŽA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4952880" y="2209320"/>
            <a:ext cx="1905120" cy="1219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4496040" cy="3355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WORD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hr-HR" sz="2000" spc="-1" strike="noStrike">
                <a:solidFill>
                  <a:srgbClr val="ffffff"/>
                </a:solidFill>
                <a:latin typeface="Arial"/>
              </a:rPr>
              <a:t>TABLE OF CONT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42670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Unutar ovog dijaloga se pre svega nalaze dva prikaza budućeg sadržaja. Prvi je značajan za pisani dokument, a drugi samo ako nameravamo da dokument snimimo u obliku Internet prezentacij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Opcija SHOW PAGE NUMBERS služi za prikaz brojeva strana, a opcija RIGHT ALIGN PAGE NUMBERS služi za njihovo desno poravnanj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adajuća lista TAB LEADER se koristi za simbol kojim će biti popunjena praznina do broja – isto kao i LEADER u dijalogu za tabulato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72200" y="91440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0000"/>
                </a:solidFill>
                <a:latin typeface="Arial"/>
              </a:rPr>
              <a:t>PRIKAZ SADRŽA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828440" y="1066680"/>
            <a:ext cx="434340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828800" y="1752480"/>
            <a:ext cx="4648320" cy="762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00800" y="137160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0000"/>
                </a:solidFill>
                <a:latin typeface="Arial"/>
              </a:rPr>
              <a:t>PRIKAZ I PORAVNANJE BROJEVA STR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1905120" y="2819520"/>
            <a:ext cx="4495680" cy="152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00800" y="26668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0000"/>
                </a:solidFill>
                <a:latin typeface="Arial"/>
              </a:rPr>
              <a:t>POPUNJAVANJE RAZMAK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4496040" cy="3355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WORD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hr-HR" sz="2000" spc="-1" strike="noStrike">
                <a:solidFill>
                  <a:srgbClr val="ffffff"/>
                </a:solidFill>
                <a:latin typeface="Arial"/>
              </a:rPr>
              <a:t>TABLE OF CONT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42670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U panelu GENERAL, možemo izabrati neki od već definisanih stilova za ispis sadržaja (padajuća lista FORMAT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HOW LEVELS označava do kog nivoa podnaslova se kreira sadržaj. 1 označava samo naslove, 2 naslove i podnaslove, 3 naslove, podnaslove i pod-podnaslove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Komanda OPTIONS poziva poseban dijalog u kome možemo odrediti koji stilovi u tekstu pripadaju kom nivou u sadržaj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48520" y="137160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0000"/>
                </a:solidFill>
                <a:latin typeface="Arial"/>
              </a:rPr>
              <a:t>PREDEFINISANI STILOV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1752480" y="1752480"/>
            <a:ext cx="4724640" cy="1447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3352320" y="2819520"/>
            <a:ext cx="304812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00800" y="266688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0000"/>
                </a:solidFill>
                <a:latin typeface="Arial"/>
              </a:rPr>
              <a:t>NIVO PODNASLO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867280" y="533520"/>
            <a:ext cx="2597400" cy="3327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57200" y="838080"/>
            <a:ext cx="2819520" cy="2811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WORD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hr-HR" sz="2000" spc="-1" strike="noStrike">
                <a:solidFill>
                  <a:srgbClr val="ffffff"/>
                </a:solidFill>
                <a:latin typeface="Arial"/>
              </a:rPr>
              <a:t>TABLE OF CONT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Komanda OPTIONS poziva poseban dijalog u kome možemo odrediti koji stilovi u tekstu pripadaju kom nivou u sadržaju. Uobičajeno je da su to HEADING stilovi, a na ovom mestu možemo odrediti da su naslovi ispisani i nekim drugim stilo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Komanda MODIFY otvara dijalog u kome je moguće ručno podešavati izgled samog sadržaja promenom TOC stilova, pošto je svaki nivo ispisa u sadržaju definisan zasebnim stilom: TOC 1 za naslove, TOC 2 za podnaslove, it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29000" y="160020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0000"/>
                </a:solidFill>
                <a:latin typeface="Arial"/>
              </a:rPr>
              <a:t>DIJALOG O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2514240" y="1142640"/>
            <a:ext cx="1676520" cy="304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24280" y="2743200"/>
            <a:ext cx="1676520" cy="152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429000" y="228600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0000"/>
                </a:solidFill>
                <a:latin typeface="Arial"/>
              </a:rPr>
              <a:t>DIJALOG MOD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1T10:37:37Z</dcterms:created>
  <dc:creator>Bedni Pucko</dc:creator>
  <dc:description/>
  <dc:language>en-US</dc:language>
  <cp:lastModifiedBy> </cp:lastModifiedBy>
  <dcterms:modified xsi:type="dcterms:W3CDTF">2007-02-16T12:39:55Z</dcterms:modified>
  <cp:revision>63</cp:revision>
  <dc:subject/>
  <dc:title>WORD 2</dc:title>
</cp:coreProperties>
</file>