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8A5-CF39-4898-8FB3-784196EC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D86-9301-4DDA-8D72-1E41EB9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AC1-DAF1-4D70-8EB6-A6751F47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307-97EF-49B5-9CC5-60B5B8F5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44B-83CF-489D-88A6-39071DC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3AE-7651-4E50-8DF0-07B49B7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BCA-36E7-4D61-9E2B-CBC61C5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9D4-194C-4E25-BEFF-99917F8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81F-0ACF-47AD-AF7D-37F02386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F89-9949-4A49-B4DF-1F270A4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265-4915-4B18-A629-920CBEF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733-F62C-4C1B-A586-30C5F22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5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9EA-3232-4BB1-A37F-D2159D328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5149800" cy="3592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kst u WOR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u je moguće formatirati u obliku dva ili više stup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ažno je znati da stupci predstavljaju zasebnu sekciju tipa CONTINUOUS, što treba imati u vidu pri uklanjanju stuba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20574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VA STUPCA ODVOJENA LINIJ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343400" y="2362320"/>
            <a:ext cx="23623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190760" cy="33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dijalogu komande FORMAT – COLUMNS se pre svega nalazi ponuđeno nekoliko mogućnosti koje su unapred definisa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stoji i opcija LINE BETWEEN koja definiše da li će se između stubaca pojaviti lini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nelu PREVIEW možemo videti kako će stupci izgledati sa zadatim postavk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3049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NAPRED DEFINISANE MOGUĆ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2004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KAKO ĆE IZGLEDATI STU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1752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LINIJA IZMEĐ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971440" y="762120"/>
            <a:ext cx="29718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67080" y="2971800"/>
            <a:ext cx="2362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19360" y="1981080"/>
            <a:ext cx="198108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190760" cy="33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koliko nismo zadovoljni unapred definisanim mogućnostima, možemo sami uneti broj stuba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nelu WIDTH AND SPACING određujemo širinu stubaca i razmak između njih. Ukoliko je selektovana opcija EQUAL COLUMN WIDTH, možemo da definišemo samo jednu širinu i jedan razmak koji se odnose na sve stupce. U suprotnom, definisaćemo širinu svakog pojedinog stup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609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BROJ STUBA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200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JEDNAKA ŠIRINA ZA STUP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1752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ŠIRINA STUPCA I RAZ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95120" y="762120"/>
            <a:ext cx="304812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80720" y="3505320"/>
            <a:ext cx="43434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124080" y="1981080"/>
            <a:ext cx="32767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2686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809880" cy="27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eć je rečeno da stupci kreiraju zasebne sekcije. Ovo je značajno kada želimo da uklonimom stupce. Nije dovoljno pozvati komandu COLUMNS i odabrati samo jedan stubac, pošto sekcije i dalje ostaju u dokumentu kao što se vidi na s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pravan način je ustvari uklanjanje oba SECTION BREAK-a (i ispred i posle stubaca), jednostavnim brisanjem. Pri tom vodimo računa da donji SECTION BREAK “pamti” formatiranje teksta koji se nalazi iznad, što znači da će u trenutku kad obrišemo gornji, ceo tekst iznad stubaca biti prikazan u obliku stubaca. Ovo ne predstavlja grešku – stupci će nestati kada obrišemo i donji SECTION BRE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9625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ECTION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05320" y="3352680"/>
            <a:ext cx="76176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914040"/>
            <a:ext cx="1143000" cy="3048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276360" y="990360"/>
            <a:ext cx="99036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29200" y="3429000"/>
            <a:ext cx="1295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2-16T10:32:11Z</dcterms:modified>
  <cp:revision>54</cp:revision>
  <dc:subject/>
  <dc:title>WORD 2</dc:title>
</cp:coreProperties>
</file>