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86DE-EDB9-4512-84D5-F0AC9A03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DA3C-4061-47C8-B7F2-E58A9AA9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5BA-6258-48B1-AB56-787B81C04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570-7839-4508-A083-422AF49D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FA46-F433-4140-BBB6-D91EED66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CFB-9B9E-4216-B3F9-D1508985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FE2-DB2E-4908-B537-A4F350EC6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B4A1-FC81-42FA-8296-AC64D3F1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C51-03CC-4126-ADDE-FFE7EB6F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B3A-FCB5-4794-9469-3CA7AFA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70EE-86E6-4EEF-87C8-63FC4DC6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47DB-49F9-4DE5-8242-5021CF54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971600" y="2533680"/>
            <a:ext cx="65534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1efcb"/>
                    </a:gs>
                    <a:gs pos="100000">
                      <a:srgbClr val="c1cdbf"/>
                    </a:gs>
                  </a:gsLst>
                  <a:lin ang="10800000"/>
                </a:gradFill>
                <a:latin typeface="Arial Black"/>
              </a:rPr>
              <a:t>EXCEL 3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1efcb"/>
                  </a:gs>
                  <a:gs pos="100000">
                    <a:srgbClr val="c1cdb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A706-D020-4F20-B3AE-0274EDE3F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CEL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Grafik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slika_09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639040" cy="371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ko grafikon stoji zasebno, bez tabele, dobra ideja je da se u njega uključi i tabelarni prikaz podataka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HOW DATA TABL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 Ako želimo, pored svakog naziva serije se može pojaviti i njegova oznaka koja se nalazi u legendi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HOW LEGEND KEY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da možemo odabrati dugm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ili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1981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IKAZ TABLICE SA PODAC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1828800" y="1523520"/>
            <a:ext cx="46483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2819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OZNAKE IZ LEGENDE PORED NAZ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8380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– DATA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1904760" y="1905120"/>
            <a:ext cx="4800600" cy="1218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slika_10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5664240" cy="24256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46483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 kraju biramo da li će grafikon biti kao zasebna tabela, tj. kartica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S NEW SHEE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u dokumentu (možemo uneti i njegovo ime), ili će biti umetnut kao objekat unutar neke od postojećih tabela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S OBJECT 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9144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GRAFIKON JE ZASEBNA TABELA U DOKUMEN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819160" y="2590560"/>
            <a:ext cx="281916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895480" y="1295280"/>
            <a:ext cx="381024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35053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GRAFIKON KAO OBJEKAT UNUTAR POSTOJEĆE TABE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slika_11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743960" cy="37432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vako izgleda grafikon koji je umetnut kao objekat unutar već postojećeg sheet-a. U toj tabeli se takođe nalaze i početni podaci na osnovu kojih je nastao grafikon. Promenom podataka, grafikon će se automatski menja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fikon je moguće pomerati i menjati mu veličinu. Budući da je mišem moguće selektovati bilo koji elemenat grafikona, takođe je moguće vršiti i dalje izmene u njegovom izgled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slika_01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791320" cy="46832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5486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a bismo ubacili grafikon u Excelu, dobra ideja je da prvo selektujemo podatke za koje želimo da nacrtamo grafikon i onda pozovemo komand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HART WIZAR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vi korak je izbor tipa grafikona. Posle toga biramo dugm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11430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HART WIZ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685800"/>
            <a:ext cx="30492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715000" y="1523880"/>
            <a:ext cx="129528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647960" y="914400"/>
            <a:ext cx="236196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809880" y="2666520"/>
            <a:ext cx="32004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5105520" y="3657240"/>
            <a:ext cx="1828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934320" y="25909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GLAVNI TIPOVI GRAFIK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96252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EKOLIKO VRSTA ZA SVAKI T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slika_0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410080" cy="40924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952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nismo to uradili u trenutku kada smo pozvali CHART WIZARD, sada možemo da odaberemo koji podaci ulaze u grafikon. Zadati rang unosimo tastaturom ili selektujemo miš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pcije za raspored podataka označavaju da li su serije date u kolonama ili u redovima. U primeru je izabrana opc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LUMN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što znači da imamo 2 serije sa po 20 podataka. Opci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bi značila da imamo 20 serija sa po 2 podatk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198108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Z KOJIH ĆELIJA DOLAZE PODACI ZA GRAFIK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85840" y="3428640"/>
            <a:ext cx="251460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114440" y="2362320"/>
            <a:ext cx="243828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373392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ASPORED PODATAKA: PO REDOVIMA ILI PO KOLON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60948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- DATA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slika_03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5410080" cy="40924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4876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svaku pojedinu seriju možemo da odredimo naziv (bilo da ga unesemo, bilo da ga odaberemo u tabeli) i podatke koje obuhvata ta pojedinačna serija (ovo Excel uglavnom sam odredi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a celi grafikon možemo da odredimo koji podaci će se pojaviti kao oznake na X os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 kraju biramo dugm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X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U svakom trenutku možemo da odaberemo dugm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Excel će ostala podešavanja izvršiti automatsk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4400" y="38862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OVDE BIRAMO SERI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029200" y="1447920"/>
            <a:ext cx="1371600" cy="1676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981080" y="3352320"/>
            <a:ext cx="762120" cy="838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24480" y="129528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ZIV SER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609480"/>
            <a:ext cx="24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-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1371600" y="914400"/>
            <a:ext cx="50292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220968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ODACI SER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257800" y="2438280"/>
            <a:ext cx="182880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5334120" y="4038120"/>
            <a:ext cx="167616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10280" y="411480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ODACI ZA X O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1143000" y="1981080"/>
            <a:ext cx="5867280" cy="2438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lika_04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639040" cy="371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vde možemo uneti naslov koji se pojavljuje iznad grafikona, kao i naslove koji se pojavljuju pored X i Y 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22860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SLOV GRAFIK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4572000" y="1752120"/>
            <a:ext cx="18288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362320" y="1752120"/>
            <a:ext cx="403848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35053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ASLOVI ZA 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83808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- TIT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057400" y="2743200"/>
            <a:ext cx="449568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2133720" y="2286000"/>
            <a:ext cx="4419360" cy="1371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slika_05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639040" cy="371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tikliranjem opcija za ose možemo odrediti da li će se videti oznake na X i Y osi. Za X osu možemo da odredimo automatski prikaz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utomatic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ovo je i preporučljiva opcija), brojeve ili oznake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ili oznake u obliku datuma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ime-scal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2860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SPIS X 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904760" y="1828440"/>
            <a:ext cx="472428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7120" y="35053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SPIS Y 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8380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- AX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752120" y="2590560"/>
            <a:ext cx="487692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lika_06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639040" cy="371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ije na grafikonu mogu biti glavne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J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i pomoćne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INO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 Na ovoj kartici možemo odabrati koje će se od njih vide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nije vezane za X osu su uspravne, dok su linije vezane za Y osu polože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220968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USPRAVNE LINIJE NA GRAFIKO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1904760" y="1828440"/>
            <a:ext cx="472428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34290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OLOŽENE LINIJE NA GRAFIKO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8380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- GRID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1752120" y="2590560"/>
            <a:ext cx="487692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lika_07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639040" cy="371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genda je objašnjenje koja linija predstavlja koju seriju. To je mali okvir koji se može prikazati ili ne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HOW LEGEN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sto gde će se pozicionirati legenda u odnosu na grafikon, određuje se u okviru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LACEMEN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75248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DA LI ĆE SE VIDETI LEG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1599840" y="1599840"/>
            <a:ext cx="480060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312408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KO SE VIDI, GDE ĆE BI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8380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- LEG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523520" y="2361960"/>
            <a:ext cx="487692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slika_08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5639040" cy="371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3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GRAFIK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je ponekad teško pročitati stvarnu vrednost sa Y ose grafikona, moguće je prikazati tu vrednost pored same linije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OW VALU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 Isto tako, možemo odabrati opciju da se pored linije prikazuju oznake koje stoje na X osi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OW LABE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kao i da se ništa od toga ne ispisuje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rafičku oznaku serije, koja stoji u legendi, je takođe moguće prikazati pored svake vrednosti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LEGEND KEY NEXT TO LABE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3080" y="17524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IKAZ PODATAKA UZ LINIJU GRAFI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1828440"/>
            <a:ext cx="464796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32767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RIKAZ OZNAKA IZ LEGENDE PORED SVAKOG PODAT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83808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A – DATA LAB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2285640" y="3352320"/>
            <a:ext cx="434340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Bedni Pucko</cp:lastModifiedBy>
  <dcterms:modified xsi:type="dcterms:W3CDTF">2005-02-20T12:38:06Z</dcterms:modified>
  <cp:revision>50</cp:revision>
  <dc:subject/>
  <dc:title>WORD 2</dc:title>
</cp:coreProperties>
</file>