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68AE-5CEE-480A-87F6-06343475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483-A950-452E-BDAA-975F1ACE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897-DDF0-4167-816C-AB44E214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924-BF94-4F5C-A98C-3C78D449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0AB-16E2-4962-A465-7B06F68D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1FB-80FB-4D78-90F5-543B0417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1ED-31A0-49B4-80F6-DE1E7C70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B9C8-FC21-4D86-8ADD-12343CE3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37F-654E-45D6-ACF7-20146DE9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215D-8654-46C1-AEDC-0C59F03C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DCAD-6E71-458C-ADB4-4260E9D5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918-0AD6-4003-AC38-E6450FF0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2973800">
            <a:off x="-838080" y="304200"/>
            <a:ext cx="5333760" cy="533160"/>
          </a:xfrm>
          <a:prstGeom prst="rect">
            <a:avLst/>
          </a:prstGeom>
          <a:gradFill rotWithShape="0">
            <a:gsLst>
              <a:gs pos="0">
                <a:srgbClr val="c1cdbf"/>
              </a:gs>
              <a:gs pos="100000">
                <a:srgbClr val="d1ef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12973800">
            <a:off x="-762120" y="1599840"/>
            <a:ext cx="5334120" cy="533520"/>
          </a:xfrm>
          <a:prstGeom prst="rect">
            <a:avLst/>
          </a:prstGeom>
          <a:gradFill rotWithShape="0">
            <a:gsLst>
              <a:gs pos="0">
                <a:srgbClr val="c1cdbf"/>
              </a:gs>
              <a:gs pos="100000">
                <a:srgbClr val="d1ef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2973800">
            <a:off x="-762120" y="2895120"/>
            <a:ext cx="5334120" cy="533520"/>
          </a:xfrm>
          <a:prstGeom prst="rect">
            <a:avLst/>
          </a:prstGeom>
          <a:gradFill rotWithShape="0">
            <a:gsLst>
              <a:gs pos="0">
                <a:srgbClr val="c1cdbf"/>
              </a:gs>
              <a:gs pos="100000">
                <a:srgbClr val="d1ef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2973800">
            <a:off x="-762120" y="4190400"/>
            <a:ext cx="5334120" cy="533160"/>
          </a:xfrm>
          <a:prstGeom prst="rect">
            <a:avLst/>
          </a:prstGeom>
          <a:gradFill rotWithShape="0">
            <a:gsLst>
              <a:gs pos="0">
                <a:srgbClr val="c1cdbf"/>
              </a:gs>
              <a:gs pos="100000">
                <a:srgbClr val="d1ef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2973800">
            <a:off x="-762120" y="5486040"/>
            <a:ext cx="5334120" cy="533520"/>
          </a:xfrm>
          <a:prstGeom prst="rect">
            <a:avLst/>
          </a:prstGeom>
          <a:gradFill rotWithShape="0">
            <a:gsLst>
              <a:gs pos="0">
                <a:srgbClr val="c1cdbf"/>
              </a:gs>
              <a:gs pos="100000">
                <a:srgbClr val="d1ef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2973800">
            <a:off x="-762120" y="6857640"/>
            <a:ext cx="5334120" cy="533520"/>
          </a:xfrm>
          <a:prstGeom prst="rect">
            <a:avLst/>
          </a:prstGeom>
          <a:gradFill rotWithShape="0">
            <a:gsLst>
              <a:gs pos="0">
                <a:srgbClr val="c1cdbf"/>
              </a:gs>
              <a:gs pos="100000">
                <a:srgbClr val="d1ef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 rot="5400000">
            <a:off x="4971600" y="2533680"/>
            <a:ext cx="65534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d1efcb"/>
                    </a:gs>
                    <a:gs pos="100000">
                      <a:srgbClr val="c1cdbf"/>
                    </a:gs>
                  </a:gsLst>
                  <a:lin ang="10800000"/>
                </a:gradFill>
                <a:latin typeface="Arial Black"/>
              </a:rPr>
              <a:t>EXCEL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d1efcb"/>
                  </a:gs>
                  <a:gs pos="100000">
                    <a:srgbClr val="c1cdb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8EAE-14C3-4F55-B790-7EFC873B8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XCEL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un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</a:t>
            </a:r>
            <a:r>
              <a:rPr b="1" i="1" lang="sr-Latn-CS" sz="2000" spc="-1" strike="noStrike">
                <a:solidFill>
                  <a:srgbClr val="808080"/>
                </a:solidFill>
                <a:latin typeface="Arial"/>
              </a:rPr>
              <a:t>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COUNTIF (X:Y, K)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brojava koliko u zadatom rangu ima vrednosti koje zadovoljavaju zadati kriterijum</a:t>
            </a:r>
            <a:br>
              <a:rPr sz="2000"/>
            </a:br>
            <a:br>
              <a:rPr sz="2000"/>
            </a:br>
            <a:r>
              <a:rPr b="0" i="1" lang="sr-Latn-CS" sz="2000" spc="-1" strike="noStrike">
                <a:solidFill>
                  <a:srgbClr val="485745"/>
                </a:solidFill>
                <a:latin typeface="Arial"/>
              </a:rPr>
              <a:t>COUNTIF(A1:A10, “</a:t>
            </a:r>
            <a:r>
              <a:rPr b="0" i="1" lang="en-US" sz="2000" spc="-1" strike="noStrike">
                <a:solidFill>
                  <a:srgbClr val="485745"/>
                </a:solidFill>
                <a:latin typeface="Arial"/>
              </a:rPr>
              <a:t>&gt;=50”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– koliko ima vrednosti većih ili jednakih od 50</a:t>
            </a:r>
            <a:br>
              <a:rPr sz="2000"/>
            </a:br>
            <a:r>
              <a:rPr b="0" i="1" lang="sr-Latn-CS" sz="2000" spc="-1" strike="noStrike">
                <a:solidFill>
                  <a:srgbClr val="485745"/>
                </a:solidFill>
                <a:latin typeface="Arial"/>
              </a:rPr>
              <a:t>COUNTIF(A1:A10, “</a:t>
            </a:r>
            <a:r>
              <a:rPr b="0" i="1" lang="en-US" sz="2000" spc="-1" strike="noStrike">
                <a:solidFill>
                  <a:srgbClr val="485745"/>
                </a:solidFill>
                <a:latin typeface="Arial"/>
              </a:rPr>
              <a:t>pera”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koliko ima vrednosti jednakih reči “pera”</a:t>
            </a:r>
            <a:br>
              <a:rPr sz="2000"/>
            </a:br>
            <a:r>
              <a:rPr b="0" i="1" lang="sr-Latn-CS" sz="2000" spc="-1" strike="noStrike">
                <a:solidFill>
                  <a:srgbClr val="485745"/>
                </a:solidFill>
                <a:latin typeface="Arial"/>
              </a:rPr>
              <a:t>COUNTIF(A1:A10, </a:t>
            </a:r>
            <a:r>
              <a:rPr b="0" i="1" lang="en-US" sz="2000" spc="-1" strike="noStrike">
                <a:solidFill>
                  <a:srgbClr val="485745"/>
                </a:solidFill>
                <a:latin typeface="Arial"/>
              </a:rPr>
              <a:t>C1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koliko ima vrednosti jednakih ćeliji 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17524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FUNKCIJA USLOVNOG BROJ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</a:t>
            </a:r>
            <a:r>
              <a:rPr b="1" i="1" lang="sr-Latn-CS" sz="2000" spc="-1" strike="noStrike">
                <a:solidFill>
                  <a:srgbClr val="808080"/>
                </a:solidFill>
                <a:latin typeface="Arial"/>
              </a:rPr>
              <a:t>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ATE (G, M, D)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raća datumsku vrednost za zadatu godinu G, mesec M i da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ODAY (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raća današnji d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17524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ATUMSKE FUNK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apraviti tabelu u kojoj se za unete dolaske studenata na časove i ostvaren broj poena na pismenom delu računa ukupan broj poena, ocena na pismenom delu i da li student izlazi na usmeni deo ispi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Ako student ima 75% i više dolazaka (uneto je i koliko je ukupno održano časova), na poene mu se dodaje 20 poena, s tim da nikako ne sme imati više od 100 poena ukupno. Na osnovu toga se računa ocena. Ako je student na testu ostvario 100 poena i nije propustio ni jedan čas, oslobađa se usmenog dela. Treba izračunati i određene statistik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43800" y="152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ZADAT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slika_2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35733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lika_20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4724640" cy="38116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</a:t>
            </a:r>
            <a:r>
              <a:rPr b="1" i="1" lang="sr-Latn-CS" sz="2000" spc="-1" strike="noStrike">
                <a:solidFill>
                  <a:srgbClr val="808080"/>
                </a:solidFill>
                <a:latin typeface="Arial"/>
              </a:rPr>
              <a:t>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4876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unkciju možemo ubaciti i bez upotrebe tastature. Dovoljno je da odaberemo komandu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ASTE FUNCTIO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a toolbara. Pojavljuje se prozor u kome možemo odabrati funkciju po kategoriji ili po abecednom redu (AL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962160" y="838080"/>
            <a:ext cx="1600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572000" y="2057400"/>
            <a:ext cx="144792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68580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OMANDA ZA IZBOR FUNKC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685800"/>
            <a:ext cx="22860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182880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PROZOR SA SVIM EXCEL FUNKCIJ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lika_21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572000" cy="22291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</a:t>
            </a:r>
            <a:r>
              <a:rPr b="1" i="1" lang="sr-Latn-CS" sz="2000" spc="-1" strike="noStrike">
                <a:solidFill>
                  <a:srgbClr val="808080"/>
                </a:solidFill>
                <a:latin typeface="Arial"/>
              </a:rPr>
              <a:t>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962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da odaberemo funkciju, pojavljuje se dijalog za unos parametara. Parametri se mogu ukucati pomoću tastature ili selektovati miš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što ovaj dijalog zauzima mesto preko tabele, moguće ga je svesti samo na polje za unos, pomoću dugmenceta za smanjivan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733920" y="838080"/>
            <a:ext cx="182880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343040" y="1752120"/>
            <a:ext cx="167652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53352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SMANJIVANJE DIJALO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1066680"/>
            <a:ext cx="30492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182880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DIJALOG ZA UNOS PARAMET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</a:t>
            </a:r>
            <a:r>
              <a:rPr b="1" i="1" lang="sr-Latn-CS" sz="2000" spc="-1" strike="noStrike">
                <a:solidFill>
                  <a:srgbClr val="808080"/>
                </a:solidFill>
                <a:latin typeface="Arial"/>
              </a:rPr>
              <a:t>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UM (X:Y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bir zadatog ranga ćelija od X do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VERAGE (X:Y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sek ćelija u rangu od X do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AX (X:Y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o rezultat daje najveću vrednost iz zadatog ran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IN (X:Y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zultat je najmanja vrednost iz zadatog ran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17524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GREGIRAJUĆE FUNK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</a:t>
            </a:r>
            <a:r>
              <a:rPr b="1" i="1" lang="sr-Latn-CS" sz="2000" spc="-1" strike="noStrike">
                <a:solidFill>
                  <a:srgbClr val="808080"/>
                </a:solidFill>
                <a:latin typeface="Arial"/>
              </a:rPr>
              <a:t>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QRT (X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vadratni koren zadate vred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BS (X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psolutna vrednost zadate vrednosti; </a:t>
            </a:r>
            <a:r>
              <a:rPr b="0" i="1" lang="sr-Latn-CS" sz="1800" spc="-1" strike="noStrike">
                <a:solidFill>
                  <a:srgbClr val="485745"/>
                </a:solidFill>
                <a:latin typeface="Arial"/>
              </a:rPr>
              <a:t>ABS(-5)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IGN (X)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k zadate vrednosti; 1 za pozitivne, -1 za negativ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TRUNC (X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okruživanje broja tako što otkine decimale; </a:t>
            </a:r>
            <a:r>
              <a:rPr b="0" i="1" lang="sr-Latn-CS" sz="1800" spc="-1" strike="noStrike">
                <a:solidFill>
                  <a:srgbClr val="485745"/>
                </a:solidFill>
                <a:latin typeface="Arial"/>
              </a:rPr>
              <a:t>TRUNC(5.9)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OUND (X, D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matičko zaokruživanje broja X na broj decimala D; </a:t>
            </a:r>
            <a:r>
              <a:rPr b="0" i="1" lang="sr-Latn-CS" sz="1800" spc="-1" strike="noStrike">
                <a:solidFill>
                  <a:srgbClr val="485745"/>
                </a:solidFill>
                <a:latin typeface="Arial"/>
              </a:rPr>
              <a:t>ROUND(5.987, 0) =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NT(X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okruživanje na prvi manji celi broj; </a:t>
            </a:r>
            <a:r>
              <a:rPr b="0" i="1" lang="sr-Latn-CS" sz="1800" spc="-1" strike="noStrike">
                <a:solidFill>
                  <a:srgbClr val="485745"/>
                </a:solidFill>
                <a:latin typeface="Arial"/>
              </a:rPr>
              <a:t>INT(-5.1) = -6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7524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ATEMATIČKE FUNK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</a:t>
            </a:r>
            <a:r>
              <a:rPr b="1" i="1" lang="sr-Latn-CS" sz="2000" spc="-1" strike="noStrike">
                <a:solidFill>
                  <a:srgbClr val="808080"/>
                </a:solidFill>
                <a:latin typeface="Arial"/>
              </a:rPr>
              <a:t>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ND (U1, U2)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ogička konjukcija dva uslova, daje vrednost TRUE samo ako su oba zadovoljena (moguće je zadati i više od dva usl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R (U1, U2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ogička disjunkcija, daje vrednost TRUE ako je bar jedan od uslova zadovoljen (moguće je zadati i više od dva usl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OT (U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ogička negacija, vraća TRUE ako uslov nije zadovolj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17524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OGIČKE FUNK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</a:t>
            </a:r>
            <a:r>
              <a:rPr b="1" i="1" lang="sr-Latn-CS" sz="2000" spc="-1" strike="noStrike">
                <a:solidFill>
                  <a:srgbClr val="808080"/>
                </a:solidFill>
                <a:latin typeface="Arial"/>
              </a:rPr>
              <a:t>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PROPER (X)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za zadati tekstu se svako prvo slovo reči povećava, dok su sva ostala slova m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TRIM (X)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tavlja samo po jedan razmak između reči, sve ostale izbacu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LOWER (X)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va slova u tekstu se pretvaraju u mala; </a:t>
            </a:r>
            <a:r>
              <a:rPr b="0" i="1" lang="sr-Latn-CS" sz="1600" spc="-1" strike="noStrike">
                <a:solidFill>
                  <a:srgbClr val="485745"/>
                </a:solidFill>
                <a:latin typeface="Arial"/>
              </a:rPr>
              <a:t>LOWER(“PeriCA”) = “peric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UPPER (X)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va slova u tekstu se pretvaraju u veli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REPT(X, B)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zadati tekst ponavlja B puta; </a:t>
            </a:r>
            <a:r>
              <a:rPr b="0" i="1" lang="sr-Latn-CS" sz="1600" spc="-1" strike="noStrike">
                <a:solidFill>
                  <a:srgbClr val="485745"/>
                </a:solidFill>
                <a:latin typeface="Arial"/>
              </a:rPr>
              <a:t>REPT(“Aca”, 3) = “AcaAcaAc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LEN (X)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spisuje broj znakova u zadatom teks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LEFT (X, Z)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zdvaja prvih Z znakova iz zadatog teksta; </a:t>
            </a:r>
            <a:r>
              <a:rPr b="0" i="1" lang="sr-Latn-CS" sz="1600" spc="-1" strike="noStrike">
                <a:solidFill>
                  <a:srgbClr val="485745"/>
                </a:solidFill>
                <a:latin typeface="Arial"/>
              </a:rPr>
              <a:t>LEFT(“Mika”, 3) = “Mik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RIGHT (X, Z)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zdvaja poslednjih Z znakova iz zadatog tek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MID (X, P, Z)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zdvaja Z znakova iz stringa X, počev od znaka P; </a:t>
            </a:r>
            <a:r>
              <a:rPr b="0" i="1" lang="sr-Latn-CS" sz="1600" spc="-1" strike="noStrike">
                <a:solidFill>
                  <a:srgbClr val="485745"/>
                </a:solidFill>
                <a:latin typeface="Arial"/>
              </a:rPr>
              <a:t>MID(“Pera ima devojku”, 2, 3) = “er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9907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EKSTUALNE FUNK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</a:t>
            </a:r>
            <a:r>
              <a:rPr b="1" i="1" lang="sr-Latn-CS" sz="2000" spc="-1" strike="noStrike">
                <a:solidFill>
                  <a:srgbClr val="808080"/>
                </a:solidFill>
                <a:latin typeface="Arial"/>
              </a:rPr>
              <a:t>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COUNT (X:Y)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čuna koliko ima numeričkih vrednosti u zadatom rang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COUNTA (X:Y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liko u zadatom rangu ima ćelija koje imaju bilo kakvu vred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COUNTBLANK (X:Y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liko ima praznih ćelija u rang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ROJAČKE FUNK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2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</a:t>
            </a:r>
            <a:r>
              <a:rPr b="1" i="1" lang="sr-Latn-CS" sz="2000" spc="-1" strike="noStrike">
                <a:solidFill>
                  <a:srgbClr val="808080"/>
                </a:solidFill>
                <a:latin typeface="Arial"/>
              </a:rPr>
              <a:t>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F (USLOV, T VREDNOST, N VREDNOST)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verava zadati uslov i ako je tačan, vraća vrednost koja je zadata kao T VREDNOST, a ako nije tačan, vraća N VREDNOST</a:t>
            </a:r>
            <a:br>
              <a:rPr sz="2000"/>
            </a:br>
            <a:br>
              <a:rPr sz="2000"/>
            </a:br>
            <a:r>
              <a:rPr b="0" i="1" lang="sr-Latn-CS" sz="2000" spc="-1" strike="noStrike">
                <a:solidFill>
                  <a:srgbClr val="485745"/>
                </a:solidFill>
                <a:latin typeface="Arial"/>
              </a:rPr>
              <a:t>IF(A5 </a:t>
            </a:r>
            <a:r>
              <a:rPr b="0" i="1" lang="en-US" sz="2000" spc="-1" strike="noStrike">
                <a:solidFill>
                  <a:srgbClr val="485745"/>
                </a:solidFill>
                <a:latin typeface="Arial"/>
              </a:rPr>
              <a:t>&gt; 10, “veliki”, “mali”)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vrednost u A5 veća od deset, imaće vrednost “veliki”, a u suprotnom “mali”.</a:t>
            </a:r>
            <a:br>
              <a:rPr sz="2000"/>
            </a:b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o argument bilo koje funkcije može da se zada nova funkcija, odnosno cela nova form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17524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FUNKCIJA IZB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0:37:37Z</dcterms:created>
  <dc:creator>Bedni Pucko</dc:creator>
  <dc:description/>
  <dc:language>en-US</dc:language>
  <cp:lastModifiedBy>Bedni Pucko</cp:lastModifiedBy>
  <dcterms:modified xsi:type="dcterms:W3CDTF">2005-02-13T23:47:44Z</dcterms:modified>
  <cp:revision>49</cp:revision>
  <dc:subject/>
  <dc:title>WORD 2</dc:title>
</cp:coreProperties>
</file>