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B37-2BD8-45B0-B594-E2852D81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706-5351-4596-B119-38B953E8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05F-B86A-4E4C-A36D-FEE41E72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EA5-8F3C-4005-86A6-C97E5EFC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F0F-72E7-4D67-BA20-1680AF3E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3E5-F51D-467E-970B-3602575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64F-D4A9-44F2-947A-ADD93CB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B3D-B85B-428A-95FA-B515EBB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681-A174-4922-A121-AF8FD3FD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EAB-E7A4-4B46-B77B-B4B43518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DF9-C0D4-465D-85E9-050BCFB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406-1EC9-4FFC-8989-BDCC881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971600" y="2533680"/>
            <a:ext cx="65534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1efcb"/>
                    </a:gs>
                    <a:gs pos="100000">
                      <a:srgbClr val="c1cdbf"/>
                    </a:gs>
                  </a:gsLst>
                  <a:lin ang="10800000"/>
                </a:gradFill>
                <a:latin typeface="Arial Black"/>
              </a:rPr>
              <a:t>EXCEL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1efcb"/>
                  </a:gs>
                  <a:gs pos="100000">
                    <a:srgbClr val="c1cdb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957E-56BA-498A-B430-F78E03E5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CEL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rmat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4120" y="106668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RTICA B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okvir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ESET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iramo isključenje svih linija, okvir oko cele selekcije ili linije unuter selekc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okvir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iramo stil linije (deblja, tanja, dupla, tačkice, crtice, puna) i boj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okvir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iramo gde će se pojaviti linija koju smo selektovali. Linije oko kvadrata se odnose na celu selekciju, dok se linije u sredini odnose na unutrašnjost selekc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PREDNO FORMATIRANJE - OKVI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44751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4120" y="106668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RTIC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okvir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iramo boju pozadine, a u padajućoj listi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iramo vrstu i boju šrafir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0666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PREDNO FORMATIRANJE - POZAD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44751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4120" y="9144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ARTICA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list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biramo vrstu ispisa, dok se sa desne strane pojavljuju opcije za svaku vrs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 nekoliko vrsta ispisa -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Excel odlučuje kako će prikazati podatke)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daci su brojevi, biramo broj decimala i način ispisa negativnih brojeva)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urrenc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za ispis novčanih iznosa)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različiti oblici ispisa datuma i vremena)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brojevi se predstavljaju kao procenti, npr. broj 0.5 se predstavlja kao 50%)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brojevi u obliku razlomaka)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cientifi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brojevi u pokretnom zarezu)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bez obzira šta je otkucano, tretira se kao tekst)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sebne forme ispisa) 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usto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korisnik sam definiše sopstvenu formu za ispi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0666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PREDNO FORMATIRANJE – FORMA IS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44751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4120" y="9144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RTICA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pcij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LOCKE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značava da se sadržaj polja ne može menjati, a opcij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IDDE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da se ne može videti formula koja se nalazi u tom polj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ove dve opcije bile efektivne, potrebno je aktivirati komand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PROTECTION &gt; PROTECT 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0666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PREDNO FORMATIRANJE – ZAŠ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44751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4495680" cy="24685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495680" cy="24685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81480" y="19807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tabela velika tako da moramo da se pomeramo da bismo videli sve podatke i rezultate na kraju, možemo da fiksiramo redove i kolone koji predstavljaju zaglavlje tabe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dovi/kolone koji se nalaze levo i iznad ćelije na kojoj smo pozicionirani će biti fiksirani, kada odaberemo komand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FREEZE PA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 bi se redovi i kolone oslobodili, bira se komand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NFREEZE PANE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8380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IKSIRANJE REDOVA I KOL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61760" y="297180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81480" y="1980720"/>
            <a:ext cx="365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praviti raspored čas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ovom zadatku se koriste bojenje ćelija, ispis, spajanje ćelija, promena širine i visine, poravnanje i pravac ispisa, kao i postavljanje okv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10666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ZADAT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584960" cy="4838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39160" cy="2514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snovne komande za formatiranje su iste u svim Microsoft Office programima. Excel nije izuzetak. Komande za promenu fonta (oblika slova), veličinu, kao i stil ispisa (podebljano, kurzivno, podvučeno) se ponašaju isto kao u Wordu, s tim što se ovde komande mogu primeniti bilo na cele ćelije, bilo na selektovani tek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mande za poravnanje ispisa se odnose na poravnanje unutar ćelije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ve komande pokrivaju podrazumevano poravna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levo za tekst, desno za brojev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toje i komande za boju slova i boju pozadine. Boja pozadine se odnosi na celu ćelij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30481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BO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057400"/>
            <a:ext cx="8384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001000" y="1371240"/>
            <a:ext cx="30492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057400"/>
            <a:ext cx="6858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391520" y="1294920"/>
            <a:ext cx="45720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23623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ORAVN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447560" y="1219320"/>
            <a:ext cx="759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0" y="1294920"/>
            <a:ext cx="2286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743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ONT I VELIČ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581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TIL IS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2514600"/>
            <a:ext cx="8380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2514600"/>
            <a:ext cx="5335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047760" y="1295280"/>
            <a:ext cx="7596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295280"/>
            <a:ext cx="38124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657600" y="1295280"/>
            <a:ext cx="99072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038480" y="1294920"/>
            <a:ext cx="5335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343040" y="1294920"/>
            <a:ext cx="106668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648320" y="1294920"/>
            <a:ext cx="175248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530520" cy="1917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irinu kolone možemo podesiti ručno tako što mišem povučemo liniju koja odvaja kolone u naslovnom redu (tamo gde se nalaze naslovi kolo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 menjamo i visinu red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9051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143000"/>
            <a:ext cx="2209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167652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UČNA PROMENA ŠIRINE KOLONE I VISINE R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1511280" cy="2248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3276720" cy="2959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selektujemo više kolona (isto važi i za redove), možemo im promeniti širinu pomoću komand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ORM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COLUMN &gt; 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dove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&gt; ROW &gt; HEIGH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05320" y="1600200"/>
            <a:ext cx="129528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1600200"/>
            <a:ext cx="129528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1143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UNOS ŠIRINE KO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63840" cy="30733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4038480" cy="35161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tako, ako selektujemo više ćelija, moguće je promeniti njihovu širinu tako da se one prilagode sadržaju ćelija. Komanda j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ORM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COLUMN &gt;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UTOFIT 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edove j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ORM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UTOFI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428640" y="1752480"/>
            <a:ext cx="1219320" cy="152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438280"/>
            <a:ext cx="12193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17524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ROMENA ŠIRINE PREMA SADRŽA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72200" y="838080"/>
            <a:ext cx="27432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27432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27432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one i redove je moguće sakrivati. Selektovane kolone se sakrivaju komandom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HID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z POP-UP menija, odnosno men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ORM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COLUMN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dov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e koristi ista komand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ponovni prikaz se koristi komand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NHID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Dobra ideja je da se prethodno selektuju kolone između kojih se nalaze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rive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ol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6576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AKRIVANJE KOLON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36576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OLONA C JE SAKRIV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6576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VRAĆANJE KOLON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4076640" cy="2730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pajanje selektovanih ćelija se koristi komand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ERGE AND CENT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Sadržaj će biti centriran po horizontali (što se može izmeniti komandama za poravnan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1752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PAJANJE ĆEL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990720"/>
            <a:ext cx="3045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7760" y="2133720"/>
            <a:ext cx="342900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495680" y="1295280"/>
            <a:ext cx="18288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544760"/>
            <a:ext cx="4724280" cy="44751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4120" y="106668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ARTICA F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mand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ELL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z men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mogućava napredno formatiranje selektovanih ćeli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žemo odabrati font, stil i veličinu, način podvlačenja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NDER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boju ispisa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efekte: precrtano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RIKETHROUG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stepen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UPERSCRIP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indeks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UBSCRIP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želimo da odabrane karakteristike ostanu primenjene za kasnije, biramo opcij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ORMAL FON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0666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PREDNO FORMATIRANJE - F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ORMA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4120" y="106668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ARTICA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ravnanje se može podesiti po horizontali i vertika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kođe može da se odredi i ugao ispisa teksta, kao i da li će tekst biti ispisan vertikalno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c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WRAP TEKS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nači da ako je tekst iz ćelije duži nego što je širina ćelije, tekst će se ispisivati u više redo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c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HRINK TO FI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će smanjiti veličinu teksta u ćeliji, tako da ovaj stane u ćelij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c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RGE CELL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e može uključiti ako selektujemo više ćelija i na taj način ćemo ih spojiti u jednu. Isključivanjem ove opcije je moguće razdvojiti već spojene ćel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0666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PREDNO FORMATIRANJE - PORAVN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44751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 </cp:lastModifiedBy>
  <dcterms:modified xsi:type="dcterms:W3CDTF">2007-02-23T09:20:13Z</dcterms:modified>
  <cp:revision>44</cp:revision>
  <dc:subject/>
  <dc:title>WORD 2</dc:title>
</cp:coreProperties>
</file>