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317B-FB53-4AEC-8B57-106BE202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6F32-D438-4DD1-8EFA-05A77BF3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05EF-35E0-4C91-93D2-BE720459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A73E-D52E-47D7-B390-CF340507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B727-DF50-450E-8C68-0A5A2726A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B229-F639-4437-9BC5-28D6D696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0BEE-2C11-4C28-8D2F-93364349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9123-9B3E-410B-9B02-9DED9EE2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674E-7479-46DF-B913-99EC1B4C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7473-D4A7-422F-BD87-8D253072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EE73-66F7-40EA-8F27-6909219B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F99C-75F1-46AC-90B2-E3F2E43A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2973800">
            <a:off x="-838080" y="304200"/>
            <a:ext cx="5333760" cy="533160"/>
          </a:xfrm>
          <a:prstGeom prst="rect">
            <a:avLst/>
          </a:prstGeom>
          <a:gradFill rotWithShape="0">
            <a:gsLst>
              <a:gs pos="0">
                <a:srgbClr val="c1cdbf"/>
              </a:gs>
              <a:gs pos="100000">
                <a:srgbClr val="d1efc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rot="12973800">
            <a:off x="-762120" y="1599840"/>
            <a:ext cx="5334120" cy="533520"/>
          </a:xfrm>
          <a:prstGeom prst="rect">
            <a:avLst/>
          </a:prstGeom>
          <a:gradFill rotWithShape="0">
            <a:gsLst>
              <a:gs pos="0">
                <a:srgbClr val="c1cdbf"/>
              </a:gs>
              <a:gs pos="100000">
                <a:srgbClr val="d1efc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2973800">
            <a:off x="-762120" y="2895120"/>
            <a:ext cx="5334120" cy="533520"/>
          </a:xfrm>
          <a:prstGeom prst="rect">
            <a:avLst/>
          </a:prstGeom>
          <a:gradFill rotWithShape="0">
            <a:gsLst>
              <a:gs pos="0">
                <a:srgbClr val="c1cdbf"/>
              </a:gs>
              <a:gs pos="100000">
                <a:srgbClr val="d1efc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rot="12973800">
            <a:off x="-762120" y="4190400"/>
            <a:ext cx="5334120" cy="533160"/>
          </a:xfrm>
          <a:prstGeom prst="rect">
            <a:avLst/>
          </a:prstGeom>
          <a:gradFill rotWithShape="0">
            <a:gsLst>
              <a:gs pos="0">
                <a:srgbClr val="c1cdbf"/>
              </a:gs>
              <a:gs pos="100000">
                <a:srgbClr val="d1efc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2973800">
            <a:off x="-762120" y="5486040"/>
            <a:ext cx="5334120" cy="533520"/>
          </a:xfrm>
          <a:prstGeom prst="rect">
            <a:avLst/>
          </a:prstGeom>
          <a:gradFill rotWithShape="0">
            <a:gsLst>
              <a:gs pos="0">
                <a:srgbClr val="c1cdbf"/>
              </a:gs>
              <a:gs pos="100000">
                <a:srgbClr val="d1efc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2973800">
            <a:off x="-762120" y="6857640"/>
            <a:ext cx="5334120" cy="533520"/>
          </a:xfrm>
          <a:prstGeom prst="rect">
            <a:avLst/>
          </a:prstGeom>
          <a:gradFill rotWithShape="0">
            <a:gsLst>
              <a:gs pos="0">
                <a:srgbClr val="c1cdbf"/>
              </a:gs>
              <a:gs pos="100000">
                <a:srgbClr val="d1efc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 txBox="1"/>
          <p:nvPr/>
        </p:nvSpPr>
        <p:spPr>
          <a:xfrm rot="5400000">
            <a:off x="4857120" y="2533320"/>
            <a:ext cx="6553440" cy="179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d1efcb"/>
                    </a:gs>
                    <a:gs pos="100000">
                      <a:srgbClr val="c1cdbf"/>
                    </a:gs>
                  </a:gsLst>
                  <a:lin ang="10800000"/>
                </a:gradFill>
                <a:latin typeface="Arial Black"/>
              </a:rPr>
              <a:t>EXCEL 1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d1efcb"/>
                  </a:gs>
                  <a:gs pos="100000">
                    <a:srgbClr val="c1cdb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F9BF-880C-4E87-8922-D78B374A6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EXCEL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Podaci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ormu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slika_14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759120" cy="255276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pic>
        <p:nvPicPr>
          <p:cNvPr id="123" name="slika_13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3759120" cy="255276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1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ODACI I FORM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44956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ada se formula unese, u tabeli se vidi rezultat izračunavanja. Formula na osnovu koje je nastao taj rezultat se i dalje može videti u FORMULA BAR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Formule u kojima učestvuju reference su posebno korisne ako se početni podaci promene. Excel će tada automatski izračunati novi rezultat. Kao što se vidi na desnoj slici, samo je rezultat formule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=5+10+15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ostao nepromenjen, pošto se ta formula sastoji isključivo od konstan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2590920" y="2895120"/>
            <a:ext cx="45720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35812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U ĆELIJI VIDIMO REZULTAT, A U FORMULA BARU SAMU FORMU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800600" y="358128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AKO PROMENIMO NEKI PODATAK, MENJAJU SE I REZULT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6857640" y="2971440"/>
            <a:ext cx="60948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857640" y="1980720"/>
            <a:ext cx="609480" cy="1600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048120" y="1066320"/>
            <a:ext cx="304560" cy="251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slika_26" descr=""/>
          <p:cNvPicPr/>
          <p:nvPr/>
        </p:nvPicPr>
        <p:blipFill>
          <a:blip r:embed="rId1"/>
          <a:stretch/>
        </p:blipFill>
        <p:spPr>
          <a:xfrm>
            <a:off x="2057400" y="685800"/>
            <a:ext cx="4800600" cy="26290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1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ODACI I FORM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350532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CIRKULARNE REFERENCE IZAZIVAJU GREŠKU U EXCE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4114440" y="2361960"/>
            <a:ext cx="22860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495680"/>
            <a:ext cx="7772400" cy="1981440"/>
          </a:xfrm>
          <a:prstGeom prst="rect">
            <a:avLst/>
          </a:prstGeom>
          <a:solidFill>
            <a:srgbClr val="0033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44956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VAŽNO: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d1efcb"/>
                </a:solidFill>
                <a:latin typeface="Arial"/>
              </a:rPr>
              <a:t>Ako se desi da formule u ćelijama računaju rezultate jedna na osnovu druge u krug, dolazi do pojave </a:t>
            </a:r>
            <a:r>
              <a:rPr b="1" lang="sr-Latn-CS" sz="1800" spc="-1" strike="noStrike">
                <a:solidFill>
                  <a:srgbClr val="d1efcb"/>
                </a:solidFill>
                <a:latin typeface="Arial"/>
              </a:rPr>
              <a:t>cirkularnih referenci</a:t>
            </a:r>
            <a:r>
              <a:rPr b="0" lang="sr-Latn-CS" sz="1800" spc="-1" strike="noStrike">
                <a:solidFill>
                  <a:srgbClr val="d1efcb"/>
                </a:solidFill>
                <a:latin typeface="Arial"/>
              </a:rPr>
              <a:t> i tada Excel prijavljue grešk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d1efcb"/>
                </a:solidFill>
                <a:latin typeface="Arial"/>
              </a:rPr>
              <a:t>Na gornjoj slici ćelija D3 se računa kao B3+1, ćelija C7 se računa na osnovu D3 kao D3+1, dok se ćelija B3 računa na osnovu C7 kao C7+1. Tako se zatvorio krug uzajamnog računanja i stvorila cirkularna referen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slika_16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759120" cy="255276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pic>
        <p:nvPicPr>
          <p:cNvPr id="139" name="slika_15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3759120" cy="255276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1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ODACI I FORM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44956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Jednom otkucanu formulu je moguće preneti i u druge ćelije. Na primer, ako je potrebno izračunati zbir ne samo jedne, nego više kolona, originalna formula se kopira u nove ćelije komandama COPY i PAS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vo selektujemo početnu ćeliju (ili više njih), zatim biramo komandu COPY. Oko ćelije se pojavljue titrajući okvir “marširajući mravi”. U Excelu je komandu PASTE moguće izvršiti samo dok je ovaj okvir aktivan. Selektujemo ćelije u koje želimo da kopiramo formulu i biramo komandu PAS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idimo da se formula “inteligentno” iskopirala, što znači da se u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koloni C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računa zbir ćelija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C2, C3 i C4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, a u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koloni D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zbir ćelija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D2, D3 i D4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. Ovu mogućnost Excela možemo nazvati RELATIVNOST PRI KOPIRANJ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5812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FORMULU IZ ĆELIJE B7 KOPIRAMO U ĆELIJE C7 I D7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3581280"/>
            <a:ext cx="380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POČETNA FORMULA, U ĆELIJI D7 GLASI =D2+D3+D4, PA TAKO DOBIJAMO ISPRAVAN REZULT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858000" y="1066320"/>
            <a:ext cx="609480" cy="2514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858000" y="2819520"/>
            <a:ext cx="990720" cy="761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2742840" y="2895120"/>
            <a:ext cx="15228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1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ODACI I FORM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34286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lativnost pri kopiranju funkcioniše tako što se pri kopiranju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o vertikali, menjaju brojevi redov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referenci u formulama. Pri kopiranju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o horizontali, menjaju se nazivi kolon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ravno, kopiranje je moguće izvesti u svim pravcima, a ne smo u desno i na dole, kako je prikazano na gornjem primeru. Pri kopiranju na gore, brojevi redova se smanjuju, a isto važi i za oznake kolona pri kopiranju ule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Reference će se promeniti za onoliko koliko je nova ćelija udaljena od početne ćelij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590920" y="1219320"/>
          <a:ext cx="3962160" cy="1279440"/>
        </p:xfrm>
        <a:graphic>
          <a:graphicData uri="http://schemas.openxmlformats.org/drawingml/2006/table">
            <a:tbl>
              <a:tblPr/>
              <a:tblGrid>
                <a:gridCol w="1320840"/>
                <a:gridCol w="1269720"/>
                <a:gridCol w="137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=A1+A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=</a:t>
                      </a:r>
                      <a:r>
                        <a:rPr b="0" lang="sr-Latn-CS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B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+</a:t>
                      </a:r>
                      <a:r>
                        <a:rPr b="0" lang="sr-Latn-CS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B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=A</a:t>
                      </a:r>
                      <a:r>
                        <a:rPr b="0" lang="sr-Latn-CS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2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+A</a:t>
                      </a:r>
                      <a:r>
                        <a:rPr b="0" lang="sr-Latn-CS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=</a:t>
                      </a:r>
                      <a:r>
                        <a:rPr b="0" lang="sr-Latn-CS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B2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+</a:t>
                      </a:r>
                      <a:r>
                        <a:rPr b="0" lang="sr-Latn-CS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B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3962520" y="1600200"/>
            <a:ext cx="121896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2520" y="1371600"/>
            <a:ext cx="12189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1600200"/>
            <a:ext cx="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slika_19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759120" cy="255276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pic>
        <p:nvPicPr>
          <p:cNvPr id="154" name="slika_17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3759120" cy="255276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1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ODACI I FORM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48002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je želimo da kopiramo formulu na nekoliko vezanih ćelija, možemo da koristimo “razvlačenje”. Ovako se radi brže, ali je COPY+PASTE fleksibilnije jer tako možemo da kopiramo ćelije gde želimo, dok “razvlačenje” funkcioniše samo po horizontali, odnosno vertika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3581280"/>
            <a:ext cx="388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ZA RAZVLAČENJE JE POTREBNO KLIKNUTI MIŠEM NA VELIKU TAČKU U DONJEM DESNOM UGLU OKVIR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00600" y="3581280"/>
            <a:ext cx="380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POVLAČENJEM MIŠA SE DOBIJA ISTI REZULTAT KAO I SA KOMBINACIJOM COPY+PA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3276720"/>
            <a:ext cx="144756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38280" y="3200400"/>
            <a:ext cx="152640" cy="152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slika_20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4483080" cy="14860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1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ODACI I FORM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 ovom primeru ćemo probati da blokiramo promenu reference pri kopiranju. Kolona X*Y se računa slično kao i do sada, pošto je potrebno pomnožiti svaku vrednost iz kolone X sa odgovarajućim vrednostima iz kolone Y. Kada formulu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B2*C2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kopiramo na dole, dobićemo formule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B3*C3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B4*C4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1143000"/>
            <a:ext cx="243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RAČUNANJE PRVE VREDNOSTI U KOL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3580920" y="990720"/>
            <a:ext cx="205740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1447920"/>
            <a:ext cx="121932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slika_21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4483080" cy="14860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5715000" y="396252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OVA FORMULA JE DRUGAČ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3657600" y="3809880"/>
            <a:ext cx="228600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5105520" y="4267080"/>
            <a:ext cx="838080" cy="152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5334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eđutim, u drugoj koloni je potrebno pomnožiti sve vrednosti iz kolone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sa jednom jedinom vrednošću, a koja se nalazi u ćeliji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. Ako bismo uneli formulu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B2*A2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, ona bi se u donjim ćelijama transformisala u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B3*A3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B4*A4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, što nije ispravno pošto vrednosti u ćelijama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A3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A4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ne postoj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Zbog toga se pomoću znaka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blokira promena broja reda u referenci A2, pa tako ispravna formula glasi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B2*A$2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slika_23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4483080" cy="14860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pic>
        <p:nvPicPr>
          <p:cNvPr id="173" name="slika_22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4483080" cy="14860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1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ODACI I FORM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ada smo uneli formule u prvi red ovih kolona, spremni smo da ih kopiramo na donja dva reda. Selektujemo ćelije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D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E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114300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SELEKTUJEMO ĆELIJE SA FORMUL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105160" y="1523880"/>
            <a:ext cx="685800" cy="152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396252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OPIRAMO (RAZVLAČIMO) SELEKTOVANE ĆELIJE NANIŽ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105520" y="4267080"/>
            <a:ext cx="838080" cy="152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5334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ošto se ovde radi o ćelijama koje su vezane i kopiranje se vrši direktno na dole, možemo da koristimo “razvlačenje”, tako što mišem povučemo selekciju za veliku tačku koja se nalazi u donjem desnom ugl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slika_25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4483080" cy="14860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pic>
        <p:nvPicPr>
          <p:cNvPr id="182" name="slika_24" descr=""/>
          <p:cNvPicPr/>
          <p:nvPr/>
        </p:nvPicPr>
        <p:blipFill>
          <a:blip r:embed="rId2"/>
          <a:stretch/>
        </p:blipFill>
        <p:spPr>
          <a:xfrm>
            <a:off x="685800" y="838080"/>
            <a:ext cx="4483080" cy="14860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1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ODACI I FORM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ćeliji D4 smo dobili očekivanu formulu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4*C4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38680" y="114300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DOBIJENA FORMULA U ĆELIJI D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267080" y="1523880"/>
            <a:ext cx="1524240" cy="609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15000" y="3886200"/>
            <a:ext cx="281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DOBIJENA FORMULA U ĆELIJI E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105520" y="4267080"/>
            <a:ext cx="83808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33412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U ćeliji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E4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smo dobili tačnu formulu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4*A$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umesto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4*A4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što bi bilo neisprav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3581280" y="3733560"/>
            <a:ext cx="2362320" cy="533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505320" y="990360"/>
            <a:ext cx="2286000" cy="533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1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ODACI I FORM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34286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Kao što smo mogli da vidimo, ako želimo da blokiramo promenu referenci u formuli, koristimo znak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ko stavimo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ispred naziva kolone u ćeliji, oznaka kolone se neće menjati pri kopiranju po horizontali. Sa druge strane, ako oznaku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stavimo ispred broja reda, broj reda se neće menjati pri kopiranju po vertika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Znak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je moguće staviti i ispred kolone i ispred reda, i na taj način ćemo potpuno blokirati promenu reference u formul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066680" y="1219320"/>
          <a:ext cx="6934320" cy="1279440"/>
        </p:xfrm>
        <a:graphic>
          <a:graphicData uri="http://schemas.openxmlformats.org/drawingml/2006/table">
            <a:tbl>
              <a:tblPr/>
              <a:tblGrid>
                <a:gridCol w="2743200"/>
                <a:gridCol w="144792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=A1+A$1+$A1+$A$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=</a:t>
                      </a:r>
                      <a:r>
                        <a:rPr b="0" lang="sr-Latn-CS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B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1+</a:t>
                      </a:r>
                      <a:r>
                        <a:rPr b="0" lang="sr-Latn-CS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B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$1+$A1+$A$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=A</a:t>
                      </a:r>
                      <a:r>
                        <a:rPr b="0" lang="sr-Latn-CS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2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+A$1+$A</a:t>
                      </a:r>
                      <a:r>
                        <a:rPr b="0" lang="sr-Latn-CS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2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+$A$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=</a:t>
                      </a:r>
                      <a:r>
                        <a:rPr b="0" lang="sr-Latn-CS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B2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+</a:t>
                      </a:r>
                      <a:r>
                        <a:rPr b="0" lang="sr-Latn-CS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B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$1+$A</a:t>
                      </a:r>
                      <a:r>
                        <a:rPr b="0" lang="sr-Latn-CS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2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+$A$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3886200" y="1600200"/>
            <a:ext cx="129528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1371600"/>
            <a:ext cx="13716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1676520"/>
            <a:ext cx="0" cy="457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1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ODACI I FORM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cel je program za tabelarnu obradu podataka ("spreadsheet"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abela se sastoji od kolona označenih slovima –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.., i redova označenih brojevima –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.. Pojedina ćelija se označava prema koloni i redu u kome se nalazi, npr. ćelija na slici je označena kao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4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ozor Excel-a, kao i kod Word-a, sadrži menije, toolbar-ove i radnu površinu, odnosno tabelu na kojoj se rad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34320" y="9144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ED (RO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slika_01" descr=""/>
          <p:cNvPicPr/>
          <p:nvPr/>
        </p:nvPicPr>
        <p:blipFill>
          <a:blip r:embed="rId1"/>
          <a:stretch/>
        </p:blipFill>
        <p:spPr>
          <a:xfrm>
            <a:off x="2133720" y="914400"/>
            <a:ext cx="4876560" cy="36226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2362320" y="2438280"/>
            <a:ext cx="4495680" cy="152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400800" y="1219320"/>
            <a:ext cx="99072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1905120"/>
            <a:ext cx="457200" cy="2361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105520" y="762120"/>
            <a:ext cx="1676160" cy="1143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4572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KOLONA (COLUM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295280" y="1676520"/>
            <a:ext cx="99072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00200" y="2286000"/>
            <a:ext cx="160020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7524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ZNAKA </a:t>
            </a: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ĆELI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281952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ĆELIJA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(C</a:t>
            </a: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ELL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lika_02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848360" cy="172584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1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ODACI I FORM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4419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ajlovi snimljeni u Excelu imaju ekstenziju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XLS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. Jedan fajl (</a:t>
            </a:r>
            <a:r>
              <a:rPr b="1" i="1" lang="sr-Latn-CS" sz="1600" spc="-1" strike="noStrike">
                <a:solidFill>
                  <a:srgbClr val="000000"/>
                </a:solidFill>
                <a:latin typeface="Arial"/>
              </a:rPr>
              <a:t>workbook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) može da sadrži jednu ili više tabela (</a:t>
            </a:r>
            <a:r>
              <a:rPr b="1" i="1" lang="sr-Latn-CS" sz="1600" spc="-1" strike="noStrike">
                <a:solidFill>
                  <a:srgbClr val="000000"/>
                </a:solidFill>
                <a:latin typeface="Arial"/>
              </a:rPr>
              <a:t>worksheet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). U prozoru Excela, neposredno ispod radne površine, nalaze se kartice za biranje pojedinačne tabe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Levim dugmetom miša možemo odabrati neku od ovih tabela, kao i prevlačenjem promeniti redosled tabela. Klikom na desno dugme miša, pozivamo  meni kojim možemo KREIRATI NOVU TABELU (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Insert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), OBRISATI POSTOJEĆU (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Delete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), PROMENITI IME (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Rename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) ili NAPRAVITI DUPLIKAT (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Move or copy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2057400"/>
            <a:ext cx="22100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3580920" y="2285640"/>
            <a:ext cx="213372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2819520"/>
            <a:ext cx="2438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ARTICE RAZLIČITIH TABE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slika_03" descr=""/>
          <p:cNvPicPr/>
          <p:nvPr/>
        </p:nvPicPr>
        <p:blipFill>
          <a:blip r:embed="rId2"/>
          <a:stretch/>
        </p:blipFill>
        <p:spPr>
          <a:xfrm>
            <a:off x="1371600" y="3124080"/>
            <a:ext cx="1066680" cy="103032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70" name=""/>
          <p:cNvSpPr/>
          <p:nvPr/>
        </p:nvSpPr>
        <p:spPr>
          <a:xfrm flipH="1" flipV="1">
            <a:off x="2361960" y="3504960"/>
            <a:ext cx="1523880" cy="152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350532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IKONA EXCEL FAJ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slika_04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5334120" cy="216684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1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ODACI I FORM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5812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roz tabelu se krećemo mišem tako što kliknemo na pojedinu ćeliju ili koristimo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scroll barove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. Za kretanje pomoću tastature koristimo kursorske tastere (strelice), HOME za početak reda, CTRL + HOME za početak tabele, PAGE UP i PAGE DOWN za brzo kretanje gore i do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Ćelija na kojoj smo pozicionirani je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uokvirena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nos podataka u ćeliju se obavlja jednostavno. Dovoljno je da se pozicioniramo na neku ćeliju i počnemo da kucamo. Na ovaj način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unosimo nove podatke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u ćeliju. Ako želimo da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izmenimo sadržaj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ćelije, a ne da ga obrišemo, koristimo taster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F2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Za unos i izmenu se koristi i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FORMULA BAR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koji se nalazi neposredno iznad tabele. FORMULA BAR je bitan jer se u njemu uvek vidi ono što je upisano u ćeliju (npr. formula, dok se u samoj ćeliji vidi rezultat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nos završavamo kad pritisnemo ENTER ili se pomerimo na sledeću ćelij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5333760" y="1371240"/>
            <a:ext cx="198108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2133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FORMULA B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4038120" y="2590920"/>
            <a:ext cx="251460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2819520"/>
            <a:ext cx="19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UNOS U ĆELI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62120" y="5410080"/>
            <a:ext cx="7772400" cy="914400"/>
          </a:xfrm>
          <a:prstGeom prst="rect">
            <a:avLst/>
          </a:prstGeom>
          <a:solidFill>
            <a:srgbClr val="0033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slika_06" descr=""/>
          <p:cNvPicPr/>
          <p:nvPr/>
        </p:nvPicPr>
        <p:blipFill>
          <a:blip r:embed="rId1"/>
          <a:stretch/>
        </p:blipFill>
        <p:spPr>
          <a:xfrm>
            <a:off x="4952880" y="914400"/>
            <a:ext cx="3225960" cy="13716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pic>
        <p:nvPicPr>
          <p:cNvPr id="81" name="slika_05" descr=""/>
          <p:cNvPicPr/>
          <p:nvPr/>
        </p:nvPicPr>
        <p:blipFill>
          <a:blip r:embed="rId2"/>
          <a:stretch/>
        </p:blipFill>
        <p:spPr>
          <a:xfrm>
            <a:off x="762120" y="914400"/>
            <a:ext cx="3225600" cy="13716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1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ODACI I FORM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Excel ima dva režima rada sa podacim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vi je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ežim unos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– kada kucamo podatke u nekoj od ćelija. U ovom režimu je moguće selektovati deo teksta iz ćelij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rugi je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ežim rada sa celim ćelijama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– kada se pomeramo okvirom od ćelije do ćelije. U ovom režimu možemo selektovati više ćelij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7086600" y="1981080"/>
            <a:ext cx="457200" cy="533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53080" y="25146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SELEKTOVANO VIŠE ĆEL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752480" y="1828440"/>
            <a:ext cx="53352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5146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SELEKTOVAN TEKST U ĆELIJ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54100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SAVET: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d1efcb"/>
                </a:solidFill>
                <a:latin typeface="Arial"/>
              </a:rPr>
              <a:t>Veliki broj opcija za formatiranje ćelija neće raditi dok se nalazimo u režimu unosa. Da bi izašli iz ovog režima, potrebno je da pritisnemo ENTER (ili pređemo na neku drugu ćeliju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slika_07" descr=""/>
          <p:cNvPicPr/>
          <p:nvPr/>
        </p:nvPicPr>
        <p:blipFill>
          <a:blip r:embed="rId1"/>
          <a:stretch/>
        </p:blipFill>
        <p:spPr>
          <a:xfrm>
            <a:off x="533520" y="838080"/>
            <a:ext cx="3784320" cy="156240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1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ODACI I FORM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365724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daci u tabeli mogu da se predstave na mnogo načina (celi brojevi, decimalni brojevi, procenti, datum, vreme...), ali suštinski, postoje samo dve vrste podataka: TEKSTUALNI i NUMERIČK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i unosu podataka Excel automatski prepoznaje kog tipa su uneti podaci. Problem može da nastane kod unosa decimalnih brojeva i parametara funkcija. Ako je Windows podešen po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američkom standardu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, onda se za decimalni znak koristi TAČKA, a za parametre ZAREZ. Sa druge strane, po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srpskom standardu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, za odvajanje decimala se koristi ZAREZ, dok se onda za odvajanje parametara koristi TAČKA-ZARE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Ako pogrešimo pri unosu decimalnog znaka (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npr. otkucamo tačku tamo gde se očekuje zarez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), Excel će uneti broj protumačiti kao tekst i takav podatak neće moći da se koristi pri izračunavanjim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752480" y="2057040"/>
            <a:ext cx="83844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81952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TEKSTUALNI PODACI SE PORAVNAVAJU LE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3352680" y="1752480"/>
            <a:ext cx="1981440" cy="1067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267080" y="281952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NUMERIČKI PODACI SE PORAVNAVAJU DES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952880" y="762120"/>
          <a:ext cx="3733920" cy="161136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  <a:gridCol w="12448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mboli za odvaj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57b6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CIM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57b6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AMET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57b61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Č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f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PS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1ef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32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;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slika_08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5397480" cy="299088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1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ODACI I FORM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411444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 Excelu možemo selektova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JEDNU ĆELIJU – dovoljno je da se pozicioniramo na nju okvi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BLOK ĆELIJA – kliknemo mišem na prvu ćeliju i povučemo prema poslednjoj (miš pri tom treba da ima oblik DEBELOG BELOG KRSTIĆ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EO RED ILI KOLONU – kliknemo mišem na naziv kolone (slovo) ili na broj re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a bi selektovali više razdvojenih bolokova, odnosno redova i kolona istovremeno, vršimo selekciju svakog od njih dok držimo pritisnut taster CTR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4191120" y="2742840"/>
            <a:ext cx="274320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2819520"/>
            <a:ext cx="22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SELEKTOVANJE RE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105520" y="1219320"/>
            <a:ext cx="2209680" cy="152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83808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SELEKTOVANJE KOL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77120" y="190512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SELEKTOVANJE BLO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4038120" y="2057400"/>
            <a:ext cx="2590920" cy="76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slika_10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759120" cy="255276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pic>
        <p:nvPicPr>
          <p:cNvPr id="107" name="slika_09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3759120" cy="255276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1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ODACI I FORM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4190760"/>
            <a:ext cx="8001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Ćelije tabele mogu sadržati PODATKE i FORMULE. Formule služe za izračunavanje na osnovu podataka i rezultata drugih formu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vaka formula počinje znakom jednakosti (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rmu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čine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operandi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, koji mogu biti KONSTANTE (brojevi), REFERENCE (nazivi ćelija) i FUNKCIJ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perandi se povezuju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operatorima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, od kojih su najvažniji ARITMETIČKI (+ sabiranje, - oduzimanje, * množenje, / deljenje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^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stepenovanj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i RELACIONI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manj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&gt;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već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&lt;=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manje ili jednak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&gt;=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veće ili jednak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&lt;&gt;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različi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=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jednak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523880" y="2590560"/>
            <a:ext cx="685800" cy="990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35812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FORMULA KOJA SADRŽI SAMO K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3581280"/>
            <a:ext cx="380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FORMULA KOJA SADRŽI SAMO REFERENCE NA ĆELI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6476760" y="2819520"/>
            <a:ext cx="609480" cy="761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d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slika_12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759120" cy="255276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pic>
        <p:nvPicPr>
          <p:cNvPr id="115" name="slika_11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3759120" cy="2552760"/>
          </a:xfrm>
          <a:prstGeom prst="rect">
            <a:avLst/>
          </a:prstGeom>
          <a:ln w="63360">
            <a:solidFill>
              <a:srgbClr val="000000"/>
            </a:solidFill>
            <a:miter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EXCEL 1</a:t>
            </a:r>
            <a:r>
              <a:rPr b="1" lang="sr-Latn-CS" sz="2400" spc="-1" strike="noStrike">
                <a:solidFill>
                  <a:srgbClr val="808080"/>
                </a:solidFill>
                <a:latin typeface="Verdana"/>
              </a:rPr>
              <a:t> ::</a:t>
            </a:r>
            <a:r>
              <a:rPr b="0" lang="sr-Latn-CS" sz="4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808080"/>
                </a:solidFill>
                <a:latin typeface="Arial"/>
              </a:rPr>
              <a:t>PODACI I FORM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4495680"/>
            <a:ext cx="80010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ormula koja se sastoji od referenci, kao npr.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B2+B3+B4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, znači da se računa zbir brojeva koji se nalaze u ćelijama B2, B3 i B4. Reference mogu da se unose preko tastature ili pomoću miša u toku unosa same form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Excel ima veliki broj funkcija koje vrše različita izračunavanja. Funkcija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računa zbir za one brojeve, odnosno ćelije koje su navedene kao parametri funkcije – u zagradi. Ova funkcija je značajna i po tome što kao parametar može da primi i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rang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ćelija, odnosno možemo da navedemo “od koje do koje” ćelije se računa zbir. Rang navodimo tako što početnu i krajnju ćeliju odvojimo dvotačkom. Npr.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B2:B4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, označava rang ćelija počev od B2 do B4. Rang se takođe može obeležiti mišem u toku unosa form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523880" y="3047760"/>
            <a:ext cx="381240" cy="5331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3581280"/>
            <a:ext cx="388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REFERENCE NE MORAJU SAMO DA SE KUCAJU, VEĆ MOGU I DA SE BIRAJU MIŠEM TOKOM UNO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00600" y="3581280"/>
            <a:ext cx="380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FORMULA KOJA SADRŽI FUNKCIJU, KOJA KAO PARAMETAR PRIMA RANG ĆEL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6857640" y="3276720"/>
            <a:ext cx="30492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1T10:37:37Z</dcterms:created>
  <dc:creator>Bedni Pucko</dc:creator>
  <dc:description/>
  <dc:language>en-US</dc:language>
  <cp:lastModifiedBy>Bedni Pucko</cp:lastModifiedBy>
  <dcterms:modified xsi:type="dcterms:W3CDTF">2005-02-06T23:48:13Z</dcterms:modified>
  <cp:revision>31</cp:revision>
  <dc:subject/>
  <dc:title>WORD 2</dc:title>
</cp:coreProperties>
</file>